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349C3-DE60-4924-9643-EF27BAFAD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70D1E-421C-444E-876D-68C662086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6A08E-EFA6-4EA6-B9BB-286DC2EC7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4D392-AF7F-4C3E-B12F-108938557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A1AA50-AE2B-4B31-BD32-815D3A5673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31D1A-AC56-4620-89DC-39DA39ABF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39F9F-CA5D-4FAD-8909-0438EF156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F7100-C59F-46F6-A7C2-4201C1973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83EFB-9E88-4E51-8049-0D824BCBB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026CF-33B0-40BD-B00A-C4D27F257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963CD-69BF-4035-900B-C015168DC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828B3-5F20-46EF-9627-B92E5006B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D5F6D-A2CD-4370-9756-7D2B93E4A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47675-70DE-491B-A6B7-71E72DB80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8061A-164E-49E0-B2FF-BB5B24B49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286CA1-94A0-4712-A9AE-CE1D3DA9E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1BD283-8458-4138-AE4A-86B8EFEB85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330C2-00FD-4F89-A91B-956B0256F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F9B7E-8A35-4729-B180-90D2E85BD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C47A1-5185-4362-8FF4-E3929BA10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31CAB-AD8F-4576-B11A-2085063CE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518DE-CE5B-4D36-8E4F-56217F7E8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1C90F-907D-4A53-A6F9-C292EF86B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3D4AD-8FA2-4FFF-89CB-0E2CD4CA2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4425-A7F8-43AD-80EF-F19BFEFBE0A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5A49-AFA5-4B3F-955C-8F1875F7E0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2640"/>
            <a:ext cx="6629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e1"/>
                </a:solidFill>
                <a:latin typeface="Times New Roman"/>
              </a:rPr>
              <a:t>Lincoln-Douglas Debate</a:t>
            </a:r>
            <a:br>
              <a:rPr sz="4800"/>
            </a:br>
            <a:r>
              <a:rPr b="1" lang="en-US" sz="4800" spc="-1" strike="noStrike">
                <a:solidFill>
                  <a:srgbClr val="ffffe1"/>
                </a:solidFill>
                <a:latin typeface="Times New Roman"/>
              </a:rPr>
              <a:t>“Case Writing”</a:t>
            </a:r>
            <a:endParaRPr b="0" lang="en-US" sz="4800" spc="-1" strike="noStrike">
              <a:solidFill>
                <a:srgbClr val="330033"/>
              </a:solidFill>
              <a:latin typeface="Times New Roman"/>
            </a:endParaRPr>
          </a:p>
        </p:txBody>
      </p:sp>
      <p:pic>
        <p:nvPicPr>
          <p:cNvPr id="98" name="" descr=""/>
          <p:cNvPicPr/>
          <p:nvPr/>
        </p:nvPicPr>
        <p:blipFill>
          <a:blip r:embed="rId1"/>
          <a:stretch/>
        </p:blipFill>
        <p:spPr>
          <a:xfrm>
            <a:off x="3672000" y="3962520"/>
            <a:ext cx="2257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
          <p:cNvSpPr/>
          <p:nvPr/>
        </p:nvSpPr>
        <p:spPr>
          <a:xfrm>
            <a:off x="1143000" y="639000"/>
            <a:ext cx="6705720" cy="5351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99"/>
                </a:solidFill>
                <a:latin typeface="Arial"/>
              </a:rPr>
              <a:t>EXAMP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United States Supreme Court Justice Byron Whi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purpose of [the 4th] Amendment, as recognized in countless decisions of this Court, is to safeguard the privacy and security of individuals against arbitrary invasions by governmental offici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ron White, Associate Justice, U.S. Supreme Court, Opinion of the Court, New Jersey v. T.L.O., 469 U.S. 325 (1985) pg. 335.</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critical role of the 4th Amendment, I must affirm today’s resolu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ved: Drug testing of high school extracurricular activity participants is justifi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4" name="PlaceHolder 2"/>
          <p:cNvSpPr>
            <a:spLocks noGrp="1"/>
          </p:cNvSpPr>
          <p:nvPr>
            <p:ph/>
          </p:nvPr>
        </p:nvSpPr>
        <p:spPr>
          <a:xfrm>
            <a:off x="914400" y="228240"/>
            <a:ext cx="7772400" cy="590220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only obligation I have a right to assume, is to do at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ime what I think right.”</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rote Henry David Thoreau in his 19th century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ay </a:t>
            </a:r>
            <a:r>
              <a:rPr b="0" i="1" lang="en-US" sz="2400" spc="-1" strike="noStrike">
                <a:solidFill>
                  <a:srgbClr val="000000"/>
                </a:solidFill>
                <a:latin typeface="Arial"/>
              </a:rPr>
              <a:t>On Civil Disobedience</a:t>
            </a:r>
            <a:r>
              <a:rPr b="0" lang="en-US" sz="2400" spc="-1" strike="noStrike">
                <a:solidFill>
                  <a:srgbClr val="000000"/>
                </a:solidFill>
                <a:latin typeface="Arial"/>
              </a:rPr>
              <a:t>. Thoreau not only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the role an individual must fulfill as a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cientious member of society, he also described the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 consequences lived by those who never attempt to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ay societies conscience.</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I stand resolved: “An individual’s obligation to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ety ought to outweigh societies obligation to the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solutional Interpretation</a:t>
            </a:r>
            <a:endParaRPr b="0" lang="en-US" sz="3600" spc="-1" strike="noStrike">
              <a:solidFill>
                <a:srgbClr val="000000"/>
              </a:solidFill>
              <a:latin typeface="Arial"/>
            </a:endParaRPr>
          </a:p>
        </p:txBody>
      </p:sp>
      <p:pic>
        <p:nvPicPr>
          <p:cNvPr id="116" name="" descr=""/>
          <p:cNvPicPr/>
          <p:nvPr/>
        </p:nvPicPr>
        <p:blipFill>
          <a:blip r:embed="rId1"/>
          <a:stretch/>
        </p:blipFill>
        <p:spPr>
          <a:xfrm>
            <a:off x="3505320" y="2438280"/>
            <a:ext cx="2768400" cy="292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Overview</a:t>
            </a:r>
            <a:br>
              <a:rPr sz="3800"/>
            </a:br>
            <a:endParaRPr b="0" lang="en-US" sz="38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ramework/Resolutional Analysis/Observation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ere is the most logical place to put an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formation or arguments pertinent t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nderstanding how you are viewing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solution.  The easiest way to transition fro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ere is just to say, "The resolution requir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urther clarification" or "My position requir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urther clarific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Definitions</a:t>
            </a:r>
            <a:endParaRPr b="0" lang="en-US" sz="36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ive definitions of the words in the resolution, and no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thers. Anything else that needs to be defined should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e when the new word or concept is presented in cas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so, don't define every word in the resolution, only th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ig ones.  Lastly, in the case of resolutional phrases (a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pposed to single words) like 'democratic ideal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ways try to find a definition of the phrase, rather than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ombining the definitions of the individual words. If you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t find that, though, defining the parts is oka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General Considerations</a:t>
            </a:r>
            <a:r>
              <a:rPr b="0" lang="en-US" sz="4200" spc="-1" strike="noStrike">
                <a:solidFill>
                  <a:srgbClr val="330033"/>
                </a:solidFill>
                <a:latin typeface="Times New Roman"/>
                <a:ea typeface="宋体"/>
              </a:rPr>
              <a:t> </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be abusive with your definitions (use the reasonability standard here)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nly key words and phrases you don’t have to define ALL words in the resolution – some people tend to go overboar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have complete source citations (even if you don’t read the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textual definitions whenever possible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implication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ight want to discuss what the word is n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315900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5" name="PlaceHolder 2"/>
          <p:cNvSpPr>
            <a:spLocks noGrp="1"/>
          </p:cNvSpPr>
          <p:nvPr>
            <p:ph/>
          </p:nvPr>
        </p:nvSpPr>
        <p:spPr>
          <a:xfrm>
            <a:off x="685800" y="228240"/>
            <a:ext cx="7772400" cy="60958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9900"/>
                </a:solidFill>
                <a:uFillTx/>
                <a:latin typeface="Arial"/>
              </a:rPr>
              <a:t>AT A MINIMUM</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fine key ter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ource for definit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efinitions to strategically set up cas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mework – observations and analysi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narrow or specify position and justify it</a:t>
            </a:r>
            <a:endParaRPr b="0" lang="en-US" sz="2400" spc="-1" strike="noStrike">
              <a:solidFill>
                <a:srgbClr val="000000"/>
              </a:solidFill>
              <a:latin typeface="Arial"/>
            </a:endParaRPr>
          </a:p>
          <a:p>
            <a:pPr marL="343080" indent="-343080">
              <a:lnSpc>
                <a:spcPct val="8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sed to decide burdens in the round</a:t>
            </a:r>
            <a:r>
              <a:rPr b="0" lang="en-US" sz="3600" spc="-1" strike="noStrike">
                <a:solidFill>
                  <a:srgbClr val="000000"/>
                </a:solidFill>
                <a:latin typeface="Arial"/>
                <a:ea typeface="宋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ontext of the resolution</a:t>
            </a:r>
            <a:br>
              <a:rPr sz="3600"/>
            </a:br>
            <a:endParaRPr b="0" lang="en-US" sz="3600" spc="-1" strike="noStrike">
              <a:solidFill>
                <a:srgbClr val="33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ved: A just society ought not use the death penalty as a form of punish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ust society: this means that we are not tied down to proving that the application of the death penalty in a certain time or place is good, but that a just society ought or ought not use the death penalty.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assume the resolution has some kind of implicit limit (i.e. “We should only talk about examples from America.”) without some kind of textual clue. In this topic, there is no geographic context.</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hat context IS implicit in the resolution: The actor is almost certainly a government or “state” in the just socie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9" name="PlaceHolder 2"/>
          <p:cNvSpPr>
            <a:spLocks noGrp="1"/>
          </p:cNvSpPr>
          <p:nvPr>
            <p:ph/>
          </p:nvPr>
        </p:nvSpPr>
        <p:spPr>
          <a:xfrm>
            <a:off x="685800" y="228600"/>
            <a:ext cx="7772400" cy="63244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99"/>
                </a:solidFill>
                <a:latin typeface="Arial"/>
              </a:rPr>
              <a:t>EXAMPLES</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Resolved: Sanctuary cities are morally justifi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larity I offer the following defini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a Anderson defines </a:t>
            </a:r>
            <a:r>
              <a:rPr b="0" lang="en-US" sz="2000" spc="-1" strike="noStrike" u="sng">
                <a:solidFill>
                  <a:srgbClr val="000000"/>
                </a:solidFill>
                <a:uFillTx/>
                <a:latin typeface="Arial"/>
              </a:rPr>
              <a:t>Sanctuary cities</a:t>
            </a:r>
            <a:r>
              <a:rPr b="0" lang="en-US" sz="2000" spc="-1" strike="noStrike">
                <a:solidFill>
                  <a:srgbClr val="000000"/>
                </a:solidFill>
                <a:latin typeface="Arial"/>
              </a:rPr>
              <a:t> as cities that adopt a don’t ask, don’t tell policy towards the immigration status of people when it comes to most municipal benefits and services. </a:t>
            </a:r>
            <a:r>
              <a:rPr b="0" lang="en-US" sz="2000" spc="-1" strike="noStrike">
                <a:solidFill>
                  <a:srgbClr val="ff0000"/>
                </a:solidFill>
                <a:latin typeface="Arial"/>
              </a:rPr>
              <a:t>The policies generally don’t extend to those arrested for criminal offenses or convicted crimes. </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erson, Lisa, “'Sanctuary cities' draw fire, no light,” Chicago Tribune, Tribune national correspondent, December 12, 2007,</a:t>
            </a: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ea typeface="宋体"/>
              </a:rPr>
              <a:t>The implication</a:t>
            </a:r>
            <a:r>
              <a:rPr b="0" lang="en-US" sz="2000" spc="-1" strike="noStrike">
                <a:solidFill>
                  <a:srgbClr val="ff0000"/>
                </a:solidFill>
                <a:latin typeface="Arial"/>
                <a:ea typeface="宋体"/>
              </a:rPr>
              <a:t> of this definition is that crime isn’t going to be perpetuated through sanctuary cities. The government still has the ability to punish illegal immigrants through prison or deportation if they commit a criminal offen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1" name="PlaceHolder 2"/>
          <p:cNvSpPr>
            <a:spLocks noGrp="1"/>
          </p:cNvSpPr>
          <p:nvPr>
            <p:ph/>
          </p:nvPr>
        </p:nvSpPr>
        <p:spPr>
          <a:xfrm>
            <a:off x="762120" y="304560"/>
            <a:ext cx="7772400" cy="6019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d: A just government should provide health care to its citize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allow me to define a few term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t>
            </a:r>
            <a:r>
              <a:rPr b="0" lang="en-US" sz="1600" spc="-1" strike="noStrike" u="sng">
                <a:solidFill>
                  <a:srgbClr val="000000"/>
                </a:solidFill>
                <a:uFillTx/>
                <a:latin typeface="Arial"/>
              </a:rPr>
              <a:t>Provide</a:t>
            </a:r>
            <a:r>
              <a:rPr b="0" lang="en-US" sz="1600" spc="-1" strike="noStrike">
                <a:solidFill>
                  <a:srgbClr val="000000"/>
                </a:solidFill>
                <a:latin typeface="Arial"/>
              </a:rPr>
              <a:t> as to supply with.</a:t>
            </a:r>
            <a:endParaRPr b="0" lang="en-US" sz="1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arta World English Dictionary</a:t>
            </a:r>
            <a:endParaRPr b="0" lang="en-US" sz="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a variety of ways the state could provide health care to their citizen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宋体"/>
              </a:rPr>
              <a:t>The implication for the round is the affirmative does not necessarily have to defend socialized medicine.  Since the resolution doesn’t specify the way in which the government should provide health care, indicts of specific systems do not actually address the normative question of the resolution. Any system enacted poorly or ineffectively would give way to these arguments, but these arguments do not address the normative question in the resolution - should a state provide health ca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im Cook</a:t>
            </a:r>
            <a:br>
              <a:rPr sz="3800"/>
            </a:br>
            <a:r>
              <a:rPr b="0" lang="en-US" sz="3800" spc="-1" strike="noStrike">
                <a:solidFill>
                  <a:srgbClr val="330033"/>
                </a:solidFill>
                <a:latin typeface="Times New Roman"/>
              </a:rPr>
              <a:t>Salado High School</a:t>
            </a:r>
            <a:endParaRPr b="0" lang="en-US" sz="38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xtemptopicanalysis.co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extemptopicanalysis.com/LD%20Debate.asp</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LD Debat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LD Debat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s in LD</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Douglas Case Writing</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808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tandard</a:t>
            </a:r>
            <a:endParaRPr b="0" lang="en-US" sz="3600" spc="-1" strike="noStrike">
              <a:solidFill>
                <a:srgbClr val="000000"/>
              </a:solidFill>
              <a:latin typeface="Arial"/>
            </a:endParaRPr>
          </a:p>
        </p:txBody>
      </p:sp>
      <p:pic>
        <p:nvPicPr>
          <p:cNvPr id="133" name="" descr=""/>
          <p:cNvPicPr/>
          <p:nvPr/>
        </p:nvPicPr>
        <p:blipFill>
          <a:blip r:embed="rId1"/>
          <a:stretch/>
        </p:blipFill>
        <p:spPr>
          <a:xfrm>
            <a:off x="3505320" y="2895480"/>
            <a:ext cx="304776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5" name="PlaceHolder 2"/>
          <p:cNvSpPr>
            <a:spLocks noGrp="1"/>
          </p:cNvSpPr>
          <p:nvPr>
            <p:ph/>
          </p:nvPr>
        </p:nvSpPr>
        <p:spPr>
          <a:xfrm>
            <a:off x="83808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ea typeface="宋体"/>
              </a:rPr>
              <a:t>Overview</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standard is the value and criteri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lationship the debater presents to prove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solution true or false.  All arguments shoul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ink to the standard and are “weighed” by th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7" name="PlaceHolder 2"/>
          <p:cNvSpPr>
            <a:spLocks noGrp="1"/>
          </p:cNvSpPr>
          <p:nvPr>
            <p:ph/>
          </p:nvPr>
        </p:nvSpPr>
        <p:spPr>
          <a:xfrm>
            <a:off x="838080" y="456840"/>
            <a:ext cx="7772400" cy="57150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valu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the round, something you wan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value is the first part of the standards deb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alues are principles we apply to determine i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mething is good or bad, right or wrong, worthwhile o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ot. Values are not tangible things you can touch or pu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 a shelf. Values cannot be proven true or false, and i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s sometimes hard to discuss them because they ar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bstract concep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value</a:t>
            </a:r>
            <a:br>
              <a:rPr sz="3600"/>
            </a:br>
            <a:endParaRPr b="0" lang="en-US" sz="36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The first thing to keep in mind is not to make it too word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My value in today's round will b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The most important value in the round is my value o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ick with the simple 'My value is ______, because ________' an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ere is where you will justify why yours is the better value. The bes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ay to do this is in terms of relevance to the topic. By that I mea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at you should explain why your value is what the resolution want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s to debate. It's usually based on wording in the resolution! Ex: '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value democratic ideals, because it is prescribed by the resolu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r 'because they are the end specified by the resolu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1" name="PlaceHolder 2"/>
          <p:cNvSpPr>
            <a:spLocks noGrp="1"/>
          </p:cNvSpPr>
          <p:nvPr>
            <p:ph/>
          </p:nvPr>
        </p:nvSpPr>
        <p:spPr>
          <a:xfrm>
            <a:off x="838080" y="304560"/>
            <a:ext cx="77724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mmon Value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  Justic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reedom/ Liber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if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uman Right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emocrac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quali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ocietal Welfa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egitimate Governmen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dividualism / Autonom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afe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rogres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rivac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Philosopher’s idea</a:t>
            </a:r>
            <a:endParaRPr b="0" lang="en-US" sz="36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Keep in mind that using a philosopher’s idea 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 value is generally a very bad idea. Most of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ime that’s not even a value! “John Lock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ocial Contract” is not a value! Something lik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en-US" sz="2800" spc="-1" strike="noStrike">
                <a:solidFill>
                  <a:srgbClr val="000000"/>
                </a:solidFill>
                <a:latin typeface="Arial"/>
                <a:ea typeface="宋体"/>
              </a:rPr>
              <a:t>social welfare” or “legitimate governm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ould be more appropri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5" name="PlaceHolder 2"/>
          <p:cNvSpPr>
            <a:spLocks noGrp="1"/>
          </p:cNvSpPr>
          <p:nvPr>
            <p:ph/>
          </p:nvPr>
        </p:nvSpPr>
        <p:spPr>
          <a:xfrm>
            <a:off x="838080" y="228240"/>
            <a:ext cx="7772400" cy="4530600"/>
          </a:xfrm>
          <a:prstGeom prst="rect">
            <a:avLst/>
          </a:prstGeom>
          <a:noFill/>
          <a:ln w="0">
            <a:noFill/>
          </a:ln>
        </p:spPr>
        <p:txBody>
          <a:bodyPr lIns="90000" rIns="90000" tIns="46800" bIns="46800" anchor="t">
            <a:normAutofit fontScale="94000"/>
          </a:bodyPr>
          <a:p>
            <a:pPr marL="322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How to </a:t>
            </a:r>
            <a:r>
              <a:rPr b="0" lang="en-US" sz="3600" spc="-1" strike="noStrike" u="sng">
                <a:solidFill>
                  <a:srgbClr val="000099"/>
                </a:solidFill>
                <a:uFillTx/>
                <a:latin typeface="Arial"/>
              </a:rPr>
              <a:t>choose</a:t>
            </a:r>
            <a:r>
              <a:rPr b="0" lang="en-US" sz="3600" spc="-1" strike="noStrike">
                <a:solidFill>
                  <a:srgbClr val="000099"/>
                </a:solidFill>
                <a:latin typeface="Arial"/>
              </a:rPr>
              <a:t> an appropriate value:</a:t>
            </a:r>
            <a:endParaRPr b="0" lang="en-US" sz="3600" spc="-1" strike="noStrike">
              <a:solidFill>
                <a:srgbClr val="000000"/>
              </a:solidFill>
              <a:latin typeface="Arial"/>
            </a:endParaRPr>
          </a:p>
          <a:p>
            <a:pPr marL="322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dentify the object of evaluation</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resolution reads: “Drug testing of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urricular activity participants is justified, the focus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the debate should stem from the values associated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drug testing of extracurricular participants. Thus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determine which values will be best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by the object of evaluation.</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urthermore if the resolution reads: “The public’s righ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know is of greater value than the right to privacy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didates for public office” we find two objects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aluation. They are the public’s right to know and th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didate’s right to privacy, and you must determine 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oth sides what value best enhances both objects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aluation. Thus if the resolution is comparative tw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ifferent values may be appropri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dentify the evaluative ter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resolution reads: “Affirmative ac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are justified in American Society,”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ters should use the evaluative term, justified, to se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meters in determining the duties of each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ter in affirming or negating the resolu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aluative term gives debaters a guideline i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what must be proved. In the abo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ution, justification must be proved. Thus the valu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be just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1" name="PlaceHolder 2"/>
          <p:cNvSpPr>
            <a:spLocks noGrp="1"/>
          </p:cNvSpPr>
          <p:nvPr>
            <p:ph/>
          </p:nvPr>
        </p:nvSpPr>
        <p:spPr>
          <a:xfrm>
            <a:off x="838080" y="228240"/>
            <a:ext cx="7772400" cy="6172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rial"/>
              </a:rPr>
              <a:t>How to </a:t>
            </a:r>
            <a:r>
              <a:rPr b="0" i="1" lang="en-US" sz="3600" spc="-1" strike="noStrike" u="sng">
                <a:solidFill>
                  <a:srgbClr val="000099"/>
                </a:solidFill>
                <a:uFillTx/>
                <a:latin typeface="Arial"/>
              </a:rPr>
              <a:t>establish</a:t>
            </a:r>
            <a:r>
              <a:rPr b="0" i="1" lang="en-US" sz="3600" spc="-1" strike="noStrike">
                <a:solidFill>
                  <a:srgbClr val="000099"/>
                </a:solidFill>
                <a:latin typeface="Arial"/>
              </a:rPr>
              <a:t> a valu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vide an adequate and appropriate definition of your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values are abstract, and can hav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nterpretations by both debater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hen you give a value a specific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needs to be giv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68560" y="340920"/>
            <a:ext cx="515448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Parts of a Case</a:t>
            </a:r>
            <a:r>
              <a:rPr b="0" lang="en-US" sz="4800" spc="-1" strike="noStrike">
                <a:solidFill>
                  <a:srgbClr val="330033"/>
                </a:solidFill>
                <a:latin typeface="Times New Roman"/>
              </a:rPr>
              <a:t> </a:t>
            </a:r>
            <a:br>
              <a:rPr sz="4800"/>
            </a:br>
            <a:endParaRPr b="0" lang="en-US" sz="4800" spc="-1" strike="noStrike">
              <a:solidFill>
                <a:srgbClr val="330033"/>
              </a:solidFill>
              <a:latin typeface="Times New Roman"/>
            </a:endParaRPr>
          </a:p>
        </p:txBody>
      </p:sp>
      <p:sp>
        <p:nvSpPr>
          <p:cNvPr id="102" name="PlaceHolder 2"/>
          <p:cNvSpPr>
            <a:spLocks noGrp="1"/>
          </p:cNvSpPr>
          <p:nvPr>
            <p:ph/>
          </p:nvPr>
        </p:nvSpPr>
        <p:spPr>
          <a:xfrm>
            <a:off x="2133720" y="990360"/>
            <a:ext cx="6400800" cy="5135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Introduc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Resolutional Interpreta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Standard (Value/Criteria)</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Contention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Conclu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or example look at the value such as legitim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overnment. Interpretations can be varied on what 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is. Some could interpre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as a government th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tects individual rights, as others could interpret 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as a government that provid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ecurity for its citizens. Thus a definition must be giv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give your opponent and your judge an understand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f what a legitimate government actually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23880"/>
            <a:ext cx="77724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Show the value’s resolutional implic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al implications simply show why you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alue is intrinsic to the resolution. As a debat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must link how the value is related to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 What words in the resolution brough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to your value? Indicate those words wh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are writing.  For example, since the resolu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questions what a just punishment is the value could b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just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Show the value’s implic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ications give an understanding of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the value. It also gives your judg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dea of why your value is needed and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In other words, justify your selec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best, most important, supreme o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for the deb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your value is morality, you could s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ridge Professor Mark Cooray establishes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mor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thout morality all kinds of injustices and oppression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st individual persons are sanctioned. No societ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function efficiently or humanely and no civiliza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endure without this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1" name="PlaceHolder 2"/>
          <p:cNvSpPr>
            <a:spLocks noGrp="1"/>
          </p:cNvSpPr>
          <p:nvPr>
            <p:ph/>
          </p:nvPr>
        </p:nvSpPr>
        <p:spPr>
          <a:xfrm>
            <a:off x="914400" y="380880"/>
            <a:ext cx="7772400" cy="453096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endParaRPr b="0" lang="en-US" sz="3600" spc="-1" strike="noStrike">
              <a:solidFill>
                <a:srgbClr val="000000"/>
              </a:solidFill>
              <a:latin typeface="Arial"/>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standard by which something can be measured or judged...” (UIL Guide Page 10)</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way to measure or judge whether or not upholding the resolution achieves or enhances the value.”(UIL Guide Page 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r criterion is comparable to a filter. For examp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re may be many ways to achieve justice, but this i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e way to achieve it (through an action of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 Your criterion serves as a concrete way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chieve an abstract value, such as justice. For examp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can use "maximizing individual rights" as a criter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or the value social welfare. It doesn't need to be 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hysical action, but must be concrete enough so th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know how to achieve it, and there is little ambiguit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bout this. Think of your value criterion as a way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chieve your val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Arial"/>
              </a:rPr>
              <a:t>The criterion</a:t>
            </a:r>
            <a:br>
              <a:rPr sz="3800"/>
            </a:br>
            <a:endParaRPr b="0" lang="en-US" sz="38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or "value criterion" is the conceptu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echanism the debater proposes to achieve and weig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value. Oftentimes, the debater will simply talk abou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so it is sometimes referred to as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ndard, in and of itself. </a:t>
            </a:r>
            <a:r>
              <a:rPr b="0" lang="en-US" sz="2400" spc="-1" strike="noStrike" u="sng">
                <a:solidFill>
                  <a:srgbClr val="000000"/>
                </a:solidFill>
                <a:uFillTx/>
                <a:latin typeface="Arial"/>
                <a:ea typeface="宋体"/>
              </a:rPr>
              <a:t>First and foremost, the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criterion is how the debater achieves the value</a:t>
            </a:r>
            <a:r>
              <a:rPr b="0" lang="en-US" sz="2400" spc="-1" strike="noStrike">
                <a:solidFill>
                  <a:srgbClr val="000000"/>
                </a:solidFill>
                <a:latin typeface="Arial"/>
                <a:ea typeface="宋体"/>
              </a:rPr>
              <a:t>.</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criterion will usually be stated as a gerund (upholding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system of checks and balances).</a:t>
            </a:r>
            <a:r>
              <a:rPr b="0" lang="en-US" sz="2800" spc="-1" strike="noStrike">
                <a:solidFill>
                  <a:srgbClr val="000000"/>
                </a:solidFill>
                <a:latin typeface="Arial"/>
                <a:ea typeface="宋体"/>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s and criteria can be debated over whic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for a fairer debate, which o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more relevant, if the burden is fulfillab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ufficient, begs</a:t>
            </a:r>
            <a:r>
              <a:rPr b="0" lang="en-US" sz="2800" spc="-1" strike="noStrike">
                <a:solidFill>
                  <a:srgbClr val="000000"/>
                </a:solidFill>
                <a:latin typeface="Arial"/>
              </a:rPr>
              <a:t>,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 overall the criterion is something you use to achiev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r value. Furthermore the criterion is the most critic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art of the debate, because it’s the criterion everythi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hould impact back to. The criterion is what you use t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eigh the round and all arguments should stem from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debate.</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neral Considerations</a:t>
            </a:r>
            <a:endParaRPr b="0" lang="en-US" sz="36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s do not win rounds but provide an excellent foundation in order to win rounds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 what you must prove in order to win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cipate what the other side may say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strongest arguments within the realm of the resolution – don’t select the weakest!</a:t>
            </a:r>
            <a:endParaRPr b="0" lang="en-US" sz="20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argument should be an independent reason why the judge should vote for you</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3" name="PlaceHolder 2"/>
          <p:cNvSpPr>
            <a:spLocks noGrp="1"/>
          </p:cNvSpPr>
          <p:nvPr>
            <p:ph/>
          </p:nvPr>
        </p:nvSpPr>
        <p:spPr>
          <a:xfrm>
            <a:off x="914400" y="304920"/>
            <a:ext cx="7772400" cy="5486400"/>
          </a:xfrm>
          <a:prstGeom prst="rect">
            <a:avLst/>
          </a:prstGeom>
          <a:noFill/>
          <a:ln w="0">
            <a:noFill/>
          </a:ln>
        </p:spPr>
        <p:txBody>
          <a:bodyPr lIns="90000" rIns="90000" tIns="46800" bIns="46800" anchor="t">
            <a:normAutofit/>
          </a:bodyPr>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ow to </a:t>
            </a:r>
            <a:r>
              <a:rPr b="0" lang="en-US" sz="3200" spc="-1" strike="noStrike" u="sng">
                <a:solidFill>
                  <a:srgbClr val="000099"/>
                </a:solidFill>
                <a:uFillTx/>
                <a:latin typeface="Arial"/>
              </a:rPr>
              <a:t>choose and establish</a:t>
            </a:r>
            <a:r>
              <a:rPr b="0" lang="en-US" sz="3200" spc="-1" strike="noStrike">
                <a:solidFill>
                  <a:srgbClr val="000099"/>
                </a:solidFill>
                <a:latin typeface="Arial"/>
              </a:rPr>
              <a:t> an </a:t>
            </a:r>
            <a:endParaRPr b="0" lang="en-US" sz="3200" spc="-1" strike="noStrike">
              <a:solidFill>
                <a:srgbClr val="000000"/>
              </a:solidFill>
              <a:latin typeface="Arial"/>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ppropriate criterion:</a:t>
            </a:r>
            <a:endParaRPr b="0" lang="en-US" sz="3200" spc="-1" strike="noStrike">
              <a:solidFill>
                <a:srgbClr val="000000"/>
              </a:solidFill>
              <a:latin typeface="Arial"/>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Establish how your criterion achieves your val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ou must prove how your criterion achieves your val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r else you are not affirming or negating. This is tr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ecause if you are saying you value something, you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ust prove how you achieve this value in the context of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round. If your value is justice you can’t just say why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justice is important, you must also prove why your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riterion achieves justi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Provide justification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ive warrants under your criterion, why your criterion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 important. The more justifications you give, th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ore offense as to why your standard is more importan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d why you should affirm or negate.</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7" name="PlaceHolder 2"/>
          <p:cNvSpPr>
            <a:spLocks noGrp="1"/>
          </p:cNvSpPr>
          <p:nvPr>
            <p:ph/>
          </p:nvPr>
        </p:nvSpPr>
        <p:spPr>
          <a:xfrm>
            <a:off x="914400" y="380520"/>
            <a:ext cx="7772400" cy="617220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AT A MINIMUM</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Stat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efin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Link to resolu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Importance of th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State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efine criterion (this requires a bright line statement – how do you intend to meet it – how does your opponent violate it?) Spikes out </a:t>
            </a:r>
            <a:r>
              <a:rPr b="1" lang="en-US" sz="1800" spc="-1" strike="noStrike">
                <a:solidFill>
                  <a:srgbClr val="000000"/>
                </a:solidFill>
                <a:latin typeface="Arial"/>
              </a:rPr>
              <a:t>beg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Explain how is achieves the value, Spikes out </a:t>
            </a:r>
            <a:r>
              <a:rPr b="1" lang="en-US" sz="1800" spc="-1" strike="noStrike">
                <a:solidFill>
                  <a:srgbClr val="000000"/>
                </a:solidFill>
                <a:latin typeface="Arial"/>
              </a:rPr>
              <a:t>insufficient, “Necessary condition</a:t>
            </a:r>
            <a:r>
              <a:rPr b="0" lang="en-US" sz="1800" spc="-1" strike="noStrike">
                <a:solidFill>
                  <a:srgbClr val="000000"/>
                </a:solidFill>
                <a:latin typeface="Arial"/>
              </a:rPr>
              <a:t>” (i.e. it is impossible to achieve the value without achieving the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Justificat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st ways to justify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t’s the fundamental part of th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requisite for other end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It encompasses other ways to achie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330033"/>
              </a:solidFill>
              <a:latin typeface="Times New Roman"/>
            </a:endParaRPr>
          </a:p>
        </p:txBody>
      </p:sp>
      <p:sp>
        <p:nvSpPr>
          <p:cNvPr id="179" name="PlaceHolder 2"/>
          <p:cNvSpPr>
            <a:spLocks noGrp="1"/>
          </p:cNvSpPr>
          <p:nvPr>
            <p:ph/>
          </p:nvPr>
        </p:nvSpPr>
        <p:spPr>
          <a:xfrm>
            <a:off x="914400" y="304920"/>
            <a:ext cx="7772400" cy="62481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99"/>
                </a:solidFill>
                <a:latin typeface="Arial"/>
              </a:rPr>
              <a:t>EXAMPLES</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 </a:t>
            </a:r>
            <a:r>
              <a:rPr b="0" lang="en-US" sz="2400" spc="-1" strike="noStrike" u="sng">
                <a:solidFill>
                  <a:srgbClr val="000000"/>
                </a:solidFill>
                <a:uFillTx/>
                <a:latin typeface="Arial"/>
                <a:ea typeface="宋体"/>
              </a:rPr>
              <a:t>value democratic ideals</a:t>
            </a:r>
            <a:r>
              <a:rPr b="0" lang="en-US" sz="2400" spc="-1" strike="noStrike">
                <a:solidFill>
                  <a:srgbClr val="000000"/>
                </a:solidFill>
                <a:latin typeface="Arial"/>
                <a:ea typeface="宋体"/>
              </a:rPr>
              <a:t>, because they are specified a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end goal of the resolution. What makes democrac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nique from all other forms of government is that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ower exists at the level of the people, instead of at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vel of a ruling body. Since the people rule themselv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only job of the government is to act as a righ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tector and enforcer of laws, as the individual i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capable of protecting herself against the rest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ciety. With that in mind, the </a:t>
            </a:r>
            <a:r>
              <a:rPr b="0" lang="en-US" sz="2400" spc="-1" strike="noStrike" u="sng">
                <a:solidFill>
                  <a:srgbClr val="000000"/>
                </a:solidFill>
                <a:uFillTx/>
                <a:latin typeface="Arial"/>
                <a:ea typeface="宋体"/>
              </a:rPr>
              <a:t>criterion</a:t>
            </a:r>
            <a:r>
              <a:rPr b="0" lang="en-US" sz="2400" spc="-1" strike="noStrike">
                <a:solidFill>
                  <a:srgbClr val="000000"/>
                </a:solidFill>
                <a:latin typeface="Arial"/>
                <a:ea typeface="宋体"/>
              </a:rPr>
              <a:t> most inherent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emocratic ideals in the context of the resolution is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maximization of rights protection.</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1" name="PlaceHolder 2"/>
          <p:cNvSpPr>
            <a:spLocks noGrp="1"/>
          </p:cNvSpPr>
          <p:nvPr>
            <p:ph/>
          </p:nvPr>
        </p:nvSpPr>
        <p:spPr>
          <a:xfrm>
            <a:off x="914400" y="457200"/>
            <a:ext cx="7772400" cy="5029200"/>
          </a:xfrm>
          <a:prstGeom prst="rect">
            <a:avLst/>
          </a:prstGeom>
          <a:noFill/>
          <a:ln w="0">
            <a:noFill/>
          </a:ln>
        </p:spPr>
        <p:txBody>
          <a:bodyPr lIns="90000" rIns="90000" tIns="46800" bIns="46800" anchor="t">
            <a:normAutofit fontScale="78000"/>
          </a:bodyPr>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licit </a:t>
            </a:r>
            <a:r>
              <a:rPr b="0" lang="en-US" sz="2000" spc="-1" strike="noStrike" u="sng">
                <a:solidFill>
                  <a:srgbClr val="000000"/>
                </a:solidFill>
                <a:uFillTx/>
                <a:latin typeface="Arial"/>
              </a:rPr>
              <a:t>value is justice</a:t>
            </a:r>
            <a:r>
              <a:rPr b="0" lang="en-US" sz="2000" spc="-1" strike="noStrike">
                <a:solidFill>
                  <a:srgbClr val="000000"/>
                </a:solidFill>
                <a:latin typeface="Arial"/>
              </a:rPr>
              <a:t>. There are several different conceptions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what makes an action just. However all agree that violations of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worth are unjust. According to liberal theories justice is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ted in the individual. Therefore any action that violates the moral</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th of a human being would be unjust. </a:t>
            </a:r>
            <a:r>
              <a:rPr b="0" lang="en-US" sz="2000" spc="-1" strike="noStrike">
                <a:solidFill>
                  <a:srgbClr val="ff0000"/>
                </a:solidFill>
                <a:latin typeface="Arial"/>
              </a:rPr>
              <a:t>Begs</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eological theories view justice as being rooted in the</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ies or society as a whole. However these theories would</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ll condemn violations of human worth amongst a body of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Furthermore, because justice establishes rules for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interaction, justice inherently entails respect for human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th asserting individuals are worthy of a particular treatment.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human worth is a precondition to any system of justice,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we wouldn’t attempt to establish rules for a common good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could treat individuals however we wanted. </a:t>
            </a:r>
            <a:r>
              <a:rPr b="0" lang="en-US" sz="2000" spc="-1" strike="noStrike">
                <a:solidFill>
                  <a:srgbClr val="ff0000"/>
                </a:solidFill>
                <a:latin typeface="Arial"/>
              </a:rPr>
              <a:t>Sufficient</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us, the criterion in today’s round is </a:t>
            </a:r>
            <a:r>
              <a:rPr b="0" lang="en-US" sz="2000" spc="-1" strike="noStrike" u="sng">
                <a:solidFill>
                  <a:srgbClr val="000000"/>
                </a:solidFill>
                <a:uFillTx/>
                <a:latin typeface="Arial"/>
                <a:ea typeface="宋体"/>
              </a:rPr>
              <a:t>maximizing respect for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宋体"/>
              </a:rPr>
              <a:t>human worth.</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3" name="PlaceHolder 2"/>
          <p:cNvSpPr>
            <a:spLocks noGrp="1"/>
          </p:cNvSpPr>
          <p:nvPr>
            <p:ph/>
          </p:nvPr>
        </p:nvSpPr>
        <p:spPr>
          <a:xfrm>
            <a:off x="914400" y="228240"/>
            <a:ext cx="7772400" cy="62485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u="sng">
                <a:solidFill>
                  <a:srgbClr val="000000"/>
                </a:solidFill>
                <a:uFillTx/>
                <a:latin typeface="Arial"/>
              </a:rPr>
              <a:t>value implicit in the resolution is that of morality</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rue becaus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resolution questions the proper implementation of standards of morality, without citing any specific ends this implementation is supposed to reach.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ught is a normative statement, which according to the American Heritage Dictionary is used to indicate obligation. The existence of any obligations, external to obligations to oneself, is dependent on the existence of a sense of morality. This is true because, in the absence of morality, there would be no motivation, or societal burden on a person to carry out an action. Therefore, any action necessary to, or resulting in the increase of, morality ought to be undertaken.</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0000"/>
          </a:bodyPr>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宋体"/>
              </a:rPr>
              <a:t>Necessary to the concept of morality is a respect for human worth.</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notion of morality presupposes that there are morally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cceptable and unacceptable ways to treat human beings. This is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rue because systems of morality center on questions of the moral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cceptability of actions or concepts with reference to their human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sequences. For instance, the harming of an inanimate object for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asons specifically constrained to the worth of that objec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dependent of any outside effects that harming that object could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ave, would never be considered immoral. Conversely,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rbitrary harming of a human being is considered unjust inside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arameters that it harms a human being, and does not requir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alysis of outside effects to determine its justice. Therefore,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tection of human worth is a prerequisite to the existence of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ceptions morality is premised on, making it a prerequisite to</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justice itsel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ntentions</a:t>
            </a:r>
            <a:endParaRPr b="0" lang="en-US" sz="3600" spc="-1" strike="noStrike">
              <a:solidFill>
                <a:srgbClr val="000000"/>
              </a:solidFill>
              <a:latin typeface="Arial"/>
            </a:endParaRPr>
          </a:p>
        </p:txBody>
      </p:sp>
      <p:pic>
        <p:nvPicPr>
          <p:cNvPr id="187" name="" descr=""/>
          <p:cNvPicPr/>
          <p:nvPr/>
        </p:nvPicPr>
        <p:blipFill>
          <a:blip r:embed="rId1"/>
          <a:stretch/>
        </p:blipFill>
        <p:spPr>
          <a:xfrm>
            <a:off x="1828800" y="2133720"/>
            <a:ext cx="5562720" cy="3962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9" name="PlaceHolder 2"/>
          <p:cNvSpPr>
            <a:spLocks noGrp="1"/>
          </p:cNvSpPr>
          <p:nvPr>
            <p:ph/>
          </p:nvPr>
        </p:nvSpPr>
        <p:spPr>
          <a:xfrm>
            <a:off x="838080" y="304560"/>
            <a:ext cx="7772400" cy="4530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Overview</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 contention is debate jargon for points. The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oints explain how the debater achieves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riterion. In LD there are normally 2-3 mai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rguments, which have warrants (reasons th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y are true) and impacts (why they mat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1" name="PlaceHolder 2"/>
          <p:cNvSpPr>
            <a:spLocks noGrp="1"/>
          </p:cNvSpPr>
          <p:nvPr>
            <p:ph/>
          </p:nvPr>
        </p:nvSpPr>
        <p:spPr>
          <a:xfrm>
            <a:off x="914400" y="304920"/>
            <a:ext cx="7772400" cy="5943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sis statement</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sum up your case position, in that it shoul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big reason you are for or against the resolu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at reason, it involves the criter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ffirmative’s thesis and sole contention is: The government has a reciprocal obligation to immigrants, since they have tacitly consent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y thesis and sole contention: is that the death penalty respects human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neral Considerations</a:t>
            </a:r>
            <a:endParaRPr b="0" lang="en-US" sz="36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ever changing documents!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should NOT be the same tournament to tournament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out responses to what people have said to you.</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hrough many drafts!</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and verbs are your friends – fragments are not.</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hetoric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structure makes all judges happy – words like “First, Second, Next, Sub point A, Sub point B etc)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Times New Roman"/>
              </a:rPr>
              <a:t>Each contention should be a separate reason that you are achieving your criterion. </a:t>
            </a:r>
            <a:br>
              <a:rPr sz="1800"/>
            </a:br>
            <a:r>
              <a:rPr b="0" lang="en-US" sz="1800" spc="-1" strike="noStrike">
                <a:solidFill>
                  <a:srgbClr val="ff0000"/>
                </a:solidFill>
                <a:latin typeface="Times New Roman"/>
              </a:rPr>
              <a:t>Offense</a:t>
            </a:r>
            <a:r>
              <a:rPr b="0" lang="en-US" sz="1800" spc="-1" strike="noStrike">
                <a:solidFill>
                  <a:srgbClr val="330033"/>
                </a:solidFill>
                <a:latin typeface="Times New Roman"/>
              </a:rPr>
              <a:t> vs. </a:t>
            </a:r>
            <a:r>
              <a:rPr b="0" lang="en-US" sz="1800" spc="-1" strike="noStrike">
                <a:solidFill>
                  <a:srgbClr val="000099"/>
                </a:solidFill>
                <a:latin typeface="Times New Roman"/>
              </a:rPr>
              <a:t>defense</a:t>
            </a:r>
            <a:br>
              <a:rPr sz="1800"/>
            </a:br>
            <a:r>
              <a:rPr b="0" lang="en-US" sz="1800" spc="-1" strike="noStrike">
                <a:solidFill>
                  <a:srgbClr val="330033"/>
                </a:solidFill>
                <a:latin typeface="Times New Roman"/>
              </a:rPr>
              <a:t>The flow below demonstrates 2 offensive examples and one defense example.</a:t>
            </a:r>
            <a:endParaRPr b="0" lang="en-US" sz="1800" spc="-1" strike="noStrike">
              <a:solidFill>
                <a:srgbClr val="330033"/>
              </a:solidFill>
              <a:latin typeface="Times New Roman"/>
            </a:endParaRPr>
          </a:p>
        </p:txBody>
      </p:sp>
      <p:sp>
        <p:nvSpPr>
          <p:cNvPr id="193" name="PlaceHolder 2"/>
          <p:cNvSpPr>
            <a:spLocks noGrp="1"/>
          </p:cNvSpPr>
          <p:nvPr>
            <p:ph/>
          </p:nvPr>
        </p:nvSpPr>
        <p:spPr>
          <a:xfrm>
            <a:off x="838080" y="1523880"/>
            <a:ext cx="7772400" cy="5562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ion: death penalty respects human 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First, the evidence concerning the deterren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effect of the death penalty is overwhelmin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Jacob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Emory Universit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pital punishment has a strong deterrent effec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8 fewer murder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Second, protecting guards, other inmat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and innocent killed by murderers parol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Sunstein and Vermeul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ithin-prison homicides of guards and fellow inmat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aroled into the general population, some of them will kill agai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e permanent incapacitation of murderers through execution save lives on net.</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99"/>
                </a:solidFill>
                <a:uFillTx/>
                <a:latin typeface="Arial"/>
              </a:rPr>
              <a:t>Third, life imprisonment is not sufficie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Arial"/>
              </a:rPr>
              <a:t>Sunstein and Vermeu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 refusal to impose capital punishment will condem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numerous innocent people to death.</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n moral grounds, a choice that effectively condemn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arge numbers of people to death is objectionab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宋体"/>
              </a:rPr>
              <a:t>failure to impose capital punishment is a serious moral wron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5" name="PlaceHolder 2"/>
          <p:cNvSpPr>
            <a:spLocks noGrp="1"/>
          </p:cNvSpPr>
          <p:nvPr>
            <p:ph/>
          </p:nvPr>
        </p:nvSpPr>
        <p:spPr>
          <a:xfrm>
            <a:off x="914400" y="304560"/>
            <a:ext cx="7772400" cy="60195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ontention structur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laim</a:t>
            </a:r>
            <a:r>
              <a:rPr b="0" lang="en-US" sz="2400" spc="-1" strike="noStrike">
                <a:solidFill>
                  <a:srgbClr val="000000"/>
                </a:solidFill>
                <a:latin typeface="Arial"/>
              </a:rPr>
              <a:t>: The thing you are argu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arrant</a:t>
            </a:r>
            <a:r>
              <a:rPr b="0" lang="en-US" sz="2400" spc="-1" strike="noStrike">
                <a:solidFill>
                  <a:srgbClr val="000000"/>
                </a:solidFill>
                <a:latin typeface="Arial"/>
              </a:rPr>
              <a:t>: The reason your argument is true. This can be your own analysis, but it is almost always more strategic to include a car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Impact</a:t>
            </a: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he implications of your argument being true on your criterion (why this argument means you win your criterion, or why your opponent can't win i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 There can also be impacts external to your criterion, or at least slightly more removed from it. Don't forget, you can also use evidence to support the fact that your impact will happen. Doing so often makes the impact more believa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he Toulmin Model of Argumentation</a:t>
            </a:r>
            <a:br>
              <a:rPr sz="3800"/>
            </a:br>
            <a:endParaRPr b="0" lang="en-US" sz="3600" spc="-1" strike="noStrike">
              <a:solidFill>
                <a:srgbClr val="330033"/>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warrants in LD:</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nalytical</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t is about to rain because it is cloud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videntiar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ccording to the Washington Post…”</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mpiricall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happened in Maryland…”</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宋体"/>
              </a:rPr>
              <a:t>Nice to have all three!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students.ou.edu/S/Charles.R.Swadley-1/argumentation.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allacies</a:t>
            </a:r>
            <a:endParaRPr b="0" lang="en-US" sz="36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lacies - an error in reasoning.</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nizkor.org/features/fallaci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42 common fallaci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 Hominem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 Hominem Tu Quoqu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Authority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Belief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Common Practic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Consequences of a Belief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Emot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ppeal to Fea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lacy: Slippery Slop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Known as: The Camel's Nos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 of Slippery Slop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lippery Slope is a fallacy in which a person asserts that some event must inevitably follow from another without any argument for the inevitability of the event in question. In most cases, there are a series of steps or gradations between one event and the one in question and no reason is given as to why the intervening steps or gradations will simply be bypassed. This "argument" has the following form: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X has occurred (or will or might occu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event Y will inevitably happen.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ort of "reasoning" is fallacious because there is no reason to believe that one event must inevitably follow from another without an argument for such a claim. This is especially clear in cases in which there is a significant number of steps or gradations between one event and anothe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s of Slippery Slop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to stop the tuition increase! The next thing you know, they'll be charging $40,000 a semeste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 shouldn't get involved militarily in other countries. Once the government sends in a few troops, it will then send in thousands to di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aglines</a:t>
            </a:r>
            <a:endParaRPr b="0" lang="en-US" sz="36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ord should also be said about taglines. You shoul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resolutional phrases and your criterion almos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ime. The proper way to construct them is a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Restrictions on the rights of non-citizens are consistent with democratic ideals because they maximize the rights of all citizens.</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5" name="PlaceHolder 2"/>
          <p:cNvSpPr>
            <a:spLocks noGrp="1"/>
          </p:cNvSpPr>
          <p:nvPr>
            <p:ph/>
          </p:nvPr>
        </p:nvSpPr>
        <p:spPr>
          <a:xfrm>
            <a:off x="838080" y="304920"/>
            <a:ext cx="777240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Other thoughts</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 for a few independent reasons in each conten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contradictions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examples and Illustrations-use the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m relevant to the topic!</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provide pictures and give us a vision about what we are voting for and agains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current day examples if at all possibl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7" name="PlaceHolder 2"/>
          <p:cNvSpPr>
            <a:spLocks noGrp="1"/>
          </p:cNvSpPr>
          <p:nvPr>
            <p:ph/>
          </p:nvPr>
        </p:nvSpPr>
        <p:spPr>
          <a:xfrm>
            <a:off x="914400" y="304560"/>
            <a:ext cx="7772400" cy="4530600"/>
          </a:xfrm>
          <a:prstGeom prst="rect">
            <a:avLst/>
          </a:prstGeom>
          <a:noFill/>
          <a:ln w="0">
            <a:noFill/>
          </a:ln>
        </p:spPr>
        <p:txBody>
          <a:bodyPr lIns="90000" rIns="90000" tIns="46800" bIns="4680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How to </a:t>
            </a:r>
            <a:r>
              <a:rPr b="0" lang="en-US" sz="3600" spc="-1" strike="noStrike" u="sng">
                <a:solidFill>
                  <a:srgbClr val="000099"/>
                </a:solidFill>
                <a:uFillTx/>
                <a:latin typeface="Arial"/>
              </a:rPr>
              <a:t>win</a:t>
            </a:r>
            <a:r>
              <a:rPr b="0" lang="en-US" sz="3600" spc="-1" strike="noStrike">
                <a:solidFill>
                  <a:srgbClr val="000099"/>
                </a:solidFill>
                <a:latin typeface="Arial"/>
              </a:rPr>
              <a:t> the </a:t>
            </a:r>
            <a:r>
              <a:rPr b="0" lang="en-US" sz="3600" spc="-1" strike="noStrike" u="sng">
                <a:solidFill>
                  <a:srgbClr val="000099"/>
                </a:solidFill>
                <a:uFillTx/>
                <a:latin typeface="Arial"/>
              </a:rPr>
              <a:t>contentions:</a:t>
            </a:r>
            <a:endParaRPr b="0" lang="en-US" sz="3600" spc="-1" strike="noStrike">
              <a:solidFill>
                <a:srgbClr val="000000"/>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  Always link the contentions/ or impact back to the criterion. Don’t go off on tangents within the contention if it has no relation to the criterion. This is true because it’s the standards that allow the judge to weigh the round. How can a judge weigh the contention if that isn’t what you are asking the judge to weig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Impacts, Impacts, Impacts, Impacts. Impacts allow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judge to weigh in case specific arguments. There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o way the judge can weigh arguments against eac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ther, if the judge doesn’t know the impacts of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rguments. (Magnitude, longevity, timeframe, potenti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s. guaranteed)</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 Provide plenty of cards/evidence. While rhetoric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so needed, evidence is essential to any conten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idence provides the warrants/impacts that are oft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verlooked. Furthermore in extending evidence i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kes it a lot easier to extend evidence compared wit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hetoric. This is true because evidence usually has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ore structure compared with your own rhetoric</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宋体"/>
              </a:rPr>
              <a:t>Introduction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 </a:t>
            </a:r>
            <a:endParaRPr b="0" lang="en-US" sz="4400" spc="-1" strike="noStrike">
              <a:solidFill>
                <a:srgbClr val="000000"/>
              </a:solidFill>
              <a:latin typeface="Arial"/>
            </a:endParaRPr>
          </a:p>
        </p:txBody>
      </p:sp>
      <p:pic>
        <p:nvPicPr>
          <p:cNvPr id="108" name="" descr=""/>
          <p:cNvPicPr/>
          <p:nvPr/>
        </p:nvPicPr>
        <p:blipFill>
          <a:blip r:embed="rId1"/>
          <a:stretch/>
        </p:blipFill>
        <p:spPr>
          <a:xfrm>
            <a:off x="2895480" y="2286000"/>
            <a:ext cx="3345120" cy="2008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0033"/>
              </a:solidFill>
              <a:latin typeface="Times New Roman"/>
            </a:endParaRPr>
          </a:p>
        </p:txBody>
      </p:sp>
      <p:sp>
        <p:nvSpPr>
          <p:cNvPr id="213" name="PlaceHolder 2"/>
          <p:cNvSpPr>
            <a:spLocks noGrp="1"/>
          </p:cNvSpPr>
          <p:nvPr>
            <p:ph/>
          </p:nvPr>
        </p:nvSpPr>
        <p:spPr>
          <a:xfrm>
            <a:off x="91440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AT A MINIMUM</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is/Tag line/Conten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r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mp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5" name="PlaceHolder 2"/>
          <p:cNvSpPr>
            <a:spLocks noGrp="1"/>
          </p:cNvSpPr>
          <p:nvPr>
            <p:ph/>
          </p:nvPr>
        </p:nvSpPr>
        <p:spPr>
          <a:xfrm>
            <a:off x="914400" y="304920"/>
            <a:ext cx="7772400" cy="62481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99"/>
                </a:solidFill>
                <a:latin typeface="Arial"/>
              </a:rPr>
              <a:t>EXAMPL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thesis and sole </a:t>
            </a:r>
            <a:r>
              <a:rPr b="1" lang="en-US" sz="1400" spc="-1" strike="noStrike" u="sng">
                <a:solidFill>
                  <a:srgbClr val="000000"/>
                </a:solidFill>
                <a:uFillTx/>
                <a:latin typeface="Arial"/>
              </a:rPr>
              <a:t>contention</a:t>
            </a:r>
            <a:r>
              <a:rPr b="0" lang="en-US" sz="1400" spc="-1" strike="noStrike">
                <a:solidFill>
                  <a:srgbClr val="000000"/>
                </a:solidFill>
                <a:latin typeface="Arial"/>
              </a:rPr>
              <a:t>: is that the </a:t>
            </a:r>
            <a:r>
              <a:rPr b="1" lang="en-US" sz="1400" spc="-1" strike="noStrike" u="sng">
                <a:solidFill>
                  <a:srgbClr val="000000"/>
                </a:solidFill>
                <a:uFillTx/>
                <a:latin typeface="Arial"/>
              </a:rPr>
              <a:t>death penalty undermines the protection of 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efensiv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ect for life demands a heavy moral presumption against deliberate killing. This places 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al burden of proof squarely on the negativ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 Stephen Nathanson explains,</a:t>
            </a:r>
            <a:endParaRPr b="0" lang="en-US" sz="1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900" spc="-1" strike="noStrike">
                <a:solidFill>
                  <a:srgbClr val="000000"/>
                </a:solidFill>
                <a:latin typeface="Arial"/>
              </a:rPr>
              <a:t>First, they remind us of moral gravity of acts of killing. Second, they show that</a:t>
            </a:r>
            <a:r>
              <a:rPr b="0" lang="en-US" sz="1400" spc="-1" strike="noStrike">
                <a:solidFill>
                  <a:srgbClr val="000000"/>
                </a:solidFill>
                <a:latin typeface="Arial"/>
              </a:rPr>
              <a:t> </a:t>
            </a:r>
            <a:r>
              <a:rPr b="0" lang="en-US" sz="1400" spc="-1" strike="noStrike" u="sng">
                <a:solidFill>
                  <a:srgbClr val="000000"/>
                </a:solidFill>
                <a:uFillTx/>
                <a:latin typeface="Arial"/>
              </a:rPr>
              <a:t>the initial burden of proof is always on those who favor some form of killing. </a:t>
            </a:r>
            <a:r>
              <a:rPr b="0" lang="en-US" sz="900" spc="-1" strike="noStrike">
                <a:solidFill>
                  <a:srgbClr val="000000"/>
                </a:solidFill>
                <a:latin typeface="Arial"/>
              </a:rPr>
              <a:t>If deliberate killing is generally wrong, then an act of killing will be wrong unless one can show it to be a justifiable exception to the general prohibition. Furthermore,</a:t>
            </a:r>
            <a:r>
              <a:rPr b="0" lang="en-US" sz="1400" spc="-1" strike="noStrike">
                <a:solidFill>
                  <a:srgbClr val="000000"/>
                </a:solidFill>
                <a:latin typeface="Arial"/>
              </a:rPr>
              <a:t> </a:t>
            </a:r>
            <a:r>
              <a:rPr b="0" lang="en-US" sz="1400" spc="-1" strike="noStrike" u="sng">
                <a:solidFill>
                  <a:srgbClr val="000000"/>
                </a:solidFill>
                <a:uFillTx/>
                <a:latin typeface="Arial"/>
              </a:rPr>
              <a:t>anyone seriously committed to respecting life will want to insure that the list of justifications for killing will be as short as possible.</a:t>
            </a:r>
            <a:r>
              <a:rPr b="0" lang="en-US" sz="1400" spc="-1" strike="noStrike">
                <a:solidFill>
                  <a:srgbClr val="000000"/>
                </a:solidFill>
                <a:latin typeface="Arial"/>
              </a:rPr>
              <a:t> </a:t>
            </a:r>
            <a:r>
              <a:rPr b="0" lang="en-US" sz="900" spc="-1" strike="noStrike">
                <a:solidFill>
                  <a:srgbClr val="000000"/>
                </a:solidFill>
                <a:latin typeface="Arial"/>
              </a:rPr>
              <a:t>We show our respect for life by demanding that the taking of life be permitted only when the most powerful reasons have been offered. Casually adding to the list of justifiable exceptions to this principle is inconsistent with the reverence for life which is expressed by opponents and supporters of the death penalty alik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It follows from these points that in the debate about the morality of the death penalty, the moral burden of proof rests on the death penalty supporters.</a:t>
            </a:r>
            <a:r>
              <a:rPr b="0" lang="en-US" sz="1400" spc="-1" strike="noStrike">
                <a:solidFill>
                  <a:srgbClr val="000000"/>
                </a:solidFill>
                <a:latin typeface="Arial"/>
              </a:rPr>
              <a:t> </a:t>
            </a:r>
            <a:r>
              <a:rPr b="0" lang="en-US" sz="900" spc="-1" strike="noStrike">
                <a:solidFill>
                  <a:srgbClr val="000000"/>
                </a:solidFill>
                <a:latin typeface="Arial"/>
              </a:rPr>
              <a:t>Politically, of course, the burden will shirt, depending on the current state of the law and public opinion. The political burden of proof falls on those who are dissatisfied with the status quo, and opponents of the death penalty now bear that burden because there are many states which permit executions and because approval of this policy is widespread.</a:t>
            </a:r>
            <a:r>
              <a:rPr b="0" lang="en-US" sz="1400" spc="-1" strike="noStrike">
                <a:solidFill>
                  <a:srgbClr val="000000"/>
                </a:solidFill>
                <a:latin typeface="Arial"/>
              </a:rPr>
              <a:t> </a:t>
            </a:r>
            <a:r>
              <a:rPr b="0" lang="en-US" sz="1400" spc="-1" strike="noStrike" u="sng">
                <a:solidFill>
                  <a:srgbClr val="000000"/>
                </a:solidFill>
                <a:uFillTx/>
                <a:latin typeface="Arial"/>
              </a:rPr>
              <a:t>Nonetheless, from a moral point of view, the initial burden falls on death penalty supporters.</a:t>
            </a:r>
            <a:r>
              <a:rPr b="0" lang="en-US" sz="1400" spc="-1" strike="noStrike">
                <a:solidFill>
                  <a:srgbClr val="000000"/>
                </a:solidFill>
                <a:latin typeface="Arial"/>
              </a:rPr>
              <a:t> </a:t>
            </a:r>
            <a:r>
              <a:rPr b="0" lang="en-US" sz="1400" spc="-1" strike="noStrike" u="sng">
                <a:solidFill>
                  <a:srgbClr val="000000"/>
                </a:solidFill>
                <a:uFillTx/>
                <a:latin typeface="Arial"/>
              </a:rPr>
              <a:t>It is they who must beat the burden of showing that the use of death as a punishment for murder is morally permissible, that it is not on a par with murder</a:t>
            </a:r>
            <a:r>
              <a:rPr b="0" lang="en-US" sz="1400" spc="-1" strike="noStrike">
                <a:solidFill>
                  <a:srgbClr val="000000"/>
                </a:solidFill>
                <a:latin typeface="Arial"/>
              </a:rPr>
              <a:t>, </a:t>
            </a:r>
            <a:r>
              <a:rPr b="0" lang="en-US" sz="900" spc="-1" strike="noStrike">
                <a:solidFill>
                  <a:srgbClr val="000000"/>
                </a:solidFill>
                <a:latin typeface="Arial"/>
              </a:rPr>
              <a:t>that is merits inclusion on the list of justifiable exceptions to the general prohibition of killing.</a:t>
            </a:r>
            <a:endParaRPr b="0" lang="en-US" sz="9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ephen Nathanson, Professor of Philosophy at Norteasteastern University, 2001</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	</a:t>
            </a:r>
            <a:r>
              <a:rPr b="0" lang="en-US" sz="800" spc="-1" strike="noStrike">
                <a:solidFill>
                  <a:srgbClr val="000000"/>
                </a:solidFill>
                <a:latin typeface="Arial"/>
                <a:ea typeface="宋体"/>
              </a:rPr>
              <a:t>(An Eye for and Eye? Rowman &amp; Littlefield, Lanham, MD. 2nd Ed. P. 9)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7" name="PlaceHolder 2"/>
          <p:cNvSpPr>
            <a:spLocks noGrp="1"/>
          </p:cNvSpPr>
          <p:nvPr>
            <p:ph/>
          </p:nvPr>
        </p:nvSpPr>
        <p:spPr>
          <a:xfrm>
            <a:off x="838080" y="914040"/>
            <a:ext cx="7772400" cy="4530600"/>
          </a:xfrm>
          <a:prstGeom prst="rect">
            <a:avLst/>
          </a:prstGeom>
          <a:noFill/>
          <a:ln w="0">
            <a:noFill/>
          </a:ln>
        </p:spPr>
        <p:txBody>
          <a:bodyPr lIns="90000" rIns="90000" tIns="46800" bIns="46800" anchor="t">
            <a:normAutofit fontScale="85000"/>
          </a:bodyPr>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th penalty undermines life in four ways.</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ffensiv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irst, the death penalty undermines the life of the offend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th penalty is not justified because the convicted has already been rendered impotent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incapable of harming others.   The only instance of justified killing would be in self defense,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ch excludes the death penalty by definition as it kills in cold blood with no imminent danger to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on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 Llyod Steffen elaborates,</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Because we in moral community recognize and affirm life itself as a good—even a preeminent good—of life, we understand and accept a moral obligation to pursue, protect, and promote this good. Conversely, we understand that killing deprives persons of this basic good. The moral community thus regards killing as a transgression or moral violation of the most serious kind and does not sanction or justify killing except for specific and morally compelling reasons, such as self-defens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Capital punishment is a killing. It has been subject to intense moral scrutiny because it inflicts a directly willed and intended killing, the very kind of killing that is most suspect from a moral point of view.</a:t>
            </a:r>
            <a:r>
              <a:rPr b="0" lang="en-US" sz="1400" spc="-1" strike="noStrike">
                <a:solidFill>
                  <a:srgbClr val="000000"/>
                </a:solidFill>
                <a:latin typeface="Arial"/>
              </a:rPr>
              <a:t> </a:t>
            </a:r>
            <a:r>
              <a:rPr b="0" lang="en-US" sz="900" spc="-1" strike="noStrike">
                <a:solidFill>
                  <a:srgbClr val="000000"/>
                </a:solidFill>
                <a:latin typeface="Arial"/>
              </a:rPr>
              <a:t>It is a form of killing that springs not from the heat of irrational passion, but from reason and an invocation of justice, yet, ironically, for all its appeal to rationality,</a:t>
            </a:r>
            <a:r>
              <a:rPr b="0" lang="en-US" sz="1400" spc="-1" strike="noStrike">
                <a:solidFill>
                  <a:srgbClr val="000000"/>
                </a:solidFill>
                <a:latin typeface="Arial"/>
              </a:rPr>
              <a:t> </a:t>
            </a:r>
            <a:r>
              <a:rPr b="0" lang="en-US" sz="1400" spc="-1" strike="noStrike" u="sng">
                <a:solidFill>
                  <a:srgbClr val="000000"/>
                </a:solidFill>
                <a:uFillTx/>
                <a:latin typeface="Arial"/>
              </a:rPr>
              <a:t>it makes no obvious appeal to the most ration reason for justifying a killing on could offer—self-defense. And the lack of grounds for appeal to a rational self-defense argument is practical as well as theoretical, since the person facing execution, by virtue of being confined and </a:t>
            </a:r>
            <a:r>
              <a:rPr b="1" lang="en-US" sz="1400" spc="-1" strike="noStrike" u="sng">
                <a:solidFill>
                  <a:srgbClr val="000000"/>
                </a:solidFill>
                <a:uFillTx/>
                <a:latin typeface="Arial"/>
              </a:rPr>
              <a:t>removed from society, has been rendered impotent and incapable of harming others.</a:t>
            </a:r>
            <a:endParaRPr b="0" lang="en-US" sz="1400" spc="-1" strike="noStrike">
              <a:solidFill>
                <a:srgbClr val="000000"/>
              </a:solidFill>
              <a:latin typeface="Arial"/>
            </a:endParaRPr>
          </a:p>
          <a:p>
            <a:pPr marL="291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900" spc="-1" strike="noStrike">
                <a:solidFill>
                  <a:srgbClr val="000000"/>
                </a:solidFill>
                <a:latin typeface="Arial"/>
              </a:rPr>
              <a:t>Lloyd Steffen, Pro. Of Religious Studies &amp; Chaplain, Lehigh University, 1998</a:t>
            </a:r>
            <a:br>
              <a:rPr sz="900"/>
            </a:br>
            <a:r>
              <a:rPr b="0" lang="en-US" sz="900" spc="-1" strike="noStrike">
                <a:solidFill>
                  <a:srgbClr val="000000"/>
                </a:solidFill>
                <a:latin typeface="Arial"/>
              </a:rPr>
              <a:t>(Executing Justice, Cleveland: The Pilgrim Press, p. 9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218960"/>
            <a:ext cx="77724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econd, the death penalty inherently ends the life of the </a:t>
            </a:r>
            <a:r>
              <a:rPr b="1" lang="en-US" sz="1400" spc="-1" strike="noStrike" u="sng">
                <a:solidFill>
                  <a:srgbClr val="000000"/>
                </a:solidFill>
                <a:uFillTx/>
                <a:latin typeface="Arial"/>
              </a:rPr>
              <a:t>wrongfully convict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state executes the innocent, it acts contradictory to the protection of life- it terminat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Amnesty Internation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ikelihood that </a:t>
            </a:r>
            <a:r>
              <a:rPr b="1" lang="en-US" sz="1400" spc="-1" strike="noStrike">
                <a:solidFill>
                  <a:srgbClr val="000000"/>
                </a:solidFill>
                <a:latin typeface="Arial"/>
              </a:rPr>
              <a:t>innocent people</a:t>
            </a:r>
            <a:r>
              <a:rPr b="0" lang="en-US" sz="1400" spc="-1" strike="noStrike">
                <a:solidFill>
                  <a:srgbClr val="000000"/>
                </a:solidFill>
                <a:latin typeface="Arial"/>
              </a:rPr>
              <a:t> will be condemned to death and executed is </a:t>
            </a:r>
            <a:r>
              <a:rPr b="1" lang="en-US" sz="1400" spc="-1" strike="noStrike">
                <a:solidFill>
                  <a:srgbClr val="000000"/>
                </a:solidFill>
                <a:latin typeface="Arial"/>
              </a:rPr>
              <a:t>inherent </a:t>
            </a:r>
            <a:r>
              <a:rPr b="0" lang="en-US" sz="1400" spc="-1" strike="noStrike">
                <a:solidFill>
                  <a:srgbClr val="000000"/>
                </a:solidFill>
                <a:latin typeface="Arial"/>
              </a:rPr>
              <a:t>in al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isdictions which resort to capital punishment. Few mistakes made by government officials ca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 the horror of executing an innocent person. But </a:t>
            </a:r>
            <a:r>
              <a:rPr b="1" lang="en-US" sz="1400" spc="-1" strike="noStrike">
                <a:solidFill>
                  <a:srgbClr val="000000"/>
                </a:solidFill>
                <a:latin typeface="Arial"/>
              </a:rPr>
              <a:t>all systems of justice </a:t>
            </a:r>
            <a:r>
              <a:rPr b="0" lang="en-US" sz="1400" spc="-1" strike="noStrike">
                <a:solidFill>
                  <a:srgbClr val="000000"/>
                </a:solidFill>
                <a:latin typeface="Arial"/>
              </a:rPr>
              <a:t>are </a:t>
            </a:r>
            <a:r>
              <a:rPr b="1" lang="en-US" sz="1400" spc="-1" strike="noStrike">
                <a:solidFill>
                  <a:srgbClr val="000000"/>
                </a:solidFill>
                <a:latin typeface="Arial"/>
              </a:rPr>
              <a:t>fallible</a:t>
            </a:r>
            <a:r>
              <a:rPr b="0" lang="en-US" sz="1400" spc="-1" strike="noStrike">
                <a:solidFill>
                  <a:srgbClr val="000000"/>
                </a:solidFill>
                <a:latin typeface="Arial"/>
              </a:rPr>
              <a:t>; eve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tensive legal safeguard within the criminal justice system of the United States of Americ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A) have manifestly failed to prevent wrongful death sentences in many cases. Furthermor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of these basic safeguards have been seriously undermined in recent years, increasing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lethal and irreversible error.</a:t>
            </a:r>
            <a:endParaRPr b="0" lang="en-US" sz="1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nesty International, 12 November 1998,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eb.amnesty.org/library/index/ENGAMR51069199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218960"/>
            <a:ext cx="7772400" cy="4530600"/>
          </a:xfrm>
          <a:prstGeom prst="rect">
            <a:avLst/>
          </a:prstGeom>
          <a:noFill/>
          <a:ln w="0">
            <a:noFill/>
          </a:ln>
        </p:spPr>
        <p:txBody>
          <a:bodyPr lIns="90000" rIns="90000" tIns="46800" bIns="46800" anchor="t">
            <a:normAutofit fontScale="86000"/>
          </a:bodyPr>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ird, the death penalty diverts resources that could be utilized more effectively to protect life.</a:t>
            </a:r>
            <a:endParaRPr b="0" lang="en-US" sz="14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ol S. Steiker develops, </a:t>
            </a:r>
            <a:endParaRPr b="0" lang="en-US" sz="14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0000"/>
                </a:solidFill>
                <a:uFillTx/>
                <a:latin typeface="Arial"/>
              </a:rPr>
              <a:t>there are always alternative means to prevent such future harms, including policing initiatives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d other direct community interventions in the short term, and funding for social programs such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s </a:t>
            </a:r>
            <a:r>
              <a:rPr b="1" lang="en-US" sz="1200" spc="-1" strike="noStrike" u="sng">
                <a:solidFill>
                  <a:srgbClr val="000000"/>
                </a:solidFill>
                <a:uFillTx/>
                <a:latin typeface="Arial"/>
              </a:rPr>
              <a:t>education</a:t>
            </a:r>
            <a:r>
              <a:rPr b="0" lang="en-US" sz="1200" spc="-1" strike="noStrike" u="sng">
                <a:solidFill>
                  <a:srgbClr val="000000"/>
                </a:solidFill>
                <a:uFillTx/>
                <a:latin typeface="Arial"/>
              </a:rPr>
              <a:t>, </a:t>
            </a:r>
            <a:r>
              <a:rPr b="1" lang="en-US" sz="1200" spc="-1" strike="noStrike" u="sng">
                <a:solidFill>
                  <a:srgbClr val="000000"/>
                </a:solidFill>
                <a:uFillTx/>
                <a:latin typeface="Arial"/>
              </a:rPr>
              <a:t>health care</a:t>
            </a:r>
            <a:r>
              <a:rPr b="0" lang="en-US" sz="1200" spc="-1" strike="noStrike" u="sng">
                <a:solidFill>
                  <a:srgbClr val="000000"/>
                </a:solidFill>
                <a:uFillTx/>
                <a:latin typeface="Arial"/>
              </a:rPr>
              <a:t>, </a:t>
            </a:r>
            <a:r>
              <a:rPr b="1" lang="en-US" sz="1200" spc="-1" strike="noStrike" u="sng">
                <a:solidFill>
                  <a:srgbClr val="000000"/>
                </a:solidFill>
                <a:uFillTx/>
                <a:latin typeface="Arial"/>
              </a:rPr>
              <a:t>mental health services</a:t>
            </a:r>
            <a:r>
              <a:rPr b="0" lang="en-US" sz="1200" spc="-1" strike="noStrike" u="sng">
                <a:solidFill>
                  <a:srgbClr val="000000"/>
                </a:solidFill>
                <a:uFillTx/>
                <a:latin typeface="Arial"/>
              </a:rPr>
              <a:t>, and </a:t>
            </a:r>
            <a:r>
              <a:rPr b="1" lang="en-US" sz="1200" spc="-1" strike="noStrike" u="sng">
                <a:solidFill>
                  <a:srgbClr val="000000"/>
                </a:solidFill>
                <a:uFillTx/>
                <a:latin typeface="Arial"/>
              </a:rPr>
              <a:t>drug treatment</a:t>
            </a:r>
            <a:r>
              <a:rPr b="0" lang="en-US" sz="1200" spc="-1" strike="noStrike" u="sng">
                <a:solidFill>
                  <a:srgbClr val="000000"/>
                </a:solidFill>
                <a:uFillTx/>
                <a:latin typeface="Arial"/>
              </a:rPr>
              <a:t> in the medium and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ong term.</a:t>
            </a:r>
            <a:r>
              <a:rPr b="0" lang="en-US" sz="1200" spc="-1" strike="noStrike">
                <a:solidFill>
                  <a:srgbClr val="000000"/>
                </a:solidFill>
                <a:latin typeface="Arial"/>
              </a:rPr>
              <a:t> </a:t>
            </a:r>
            <a:r>
              <a:rPr b="0" lang="en-US" sz="800" spc="-1" strike="noStrike">
                <a:solidFill>
                  <a:srgbClr val="000000"/>
                </a:solidFill>
                <a:latin typeface="Arial"/>
              </a:rPr>
              <a:t>… the threshold deontologist can easily respond that</a:t>
            </a:r>
            <a:r>
              <a:rPr b="0" lang="en-US" sz="1200" spc="-1" strike="noStrike">
                <a:solidFill>
                  <a:srgbClr val="000000"/>
                </a:solidFill>
                <a:latin typeface="Arial"/>
              </a:rPr>
              <a:t> </a:t>
            </a:r>
            <a:r>
              <a:rPr b="0" lang="en-US" sz="1200" spc="-1" strike="noStrike" u="sng">
                <a:solidFill>
                  <a:srgbClr val="000000"/>
                </a:solidFill>
                <a:uFillTx/>
                <a:latin typeface="Arial"/>
              </a:rPr>
              <a:t>there will always remain the choic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etween further alternative preventive strategies and capital punishment. We are never likely to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hieve a world in which we have reached optimal spending on nonlethal preventive strategies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d have nothing left to do but adopt capital punishment. Nor is it likely, in the event that we ever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d achieve such a utopian world, that capital punishment could generate, even remotely, th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ame marginal deterrent effect, in light of the fact that the murders and murderers in such a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ld would be of a far different genesis than those in the world in which we currently liv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On a grander moral scale, preventing murders is only one way in which the state protects th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ives of its citizens. It does so also through public health policies, environmental protection,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kplace safety regulation, and the like. If the dollars spent on an execution that would prevent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ighteen murders could be spent to prevent an equal number of people from dying in workplac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cidents or from AIDS without violating any categorical moral prohibition, why should a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reshold deontologist agree that any catastrophic threshold permitting violation of such a moral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hibition has been met? Given the costliness of the administration of capital punishment, it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eems unlikely that a deontologist would ever properly conclude that the marginal deterrence </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fforded by executions so far outweighed other possible savings of lives </a:t>
            </a:r>
            <a:r>
              <a:rPr b="0" lang="en-US" sz="800" spc="-1" strike="noStrike">
                <a:solidFill>
                  <a:srgbClr val="000000"/>
                </a:solidFill>
                <a:latin typeface="Arial"/>
              </a:rPr>
              <a:t>with the same dollars so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to cross some catastrophic threshold.</a:t>
            </a:r>
            <a:endParaRPr b="0" lang="en-US" sz="8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0000"/>
                </a:solidFill>
                <a:uFillTx/>
                <a:latin typeface="Arial"/>
              </a:rPr>
              <a:t>there are many plausible alternative strategies to reducing homicide rates that could feasibly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e adopted, the best proof being that some of them have been adopted in some states.</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over, even if these policies are less politically popular than capital punishment, it is hard to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e how that affects the moral duties of those who believe that capital punishment is </a:t>
            </a:r>
            <a:endParaRPr b="0" lang="en-US" sz="8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tegorically wrong.</a:t>
            </a:r>
            <a:r>
              <a:rPr b="0" lang="en-US" sz="1200" spc="-1" strike="noStrike">
                <a:solidFill>
                  <a:srgbClr val="000000"/>
                </a:solidFill>
                <a:latin typeface="Arial"/>
              </a:rPr>
              <a:t> </a:t>
            </a:r>
            <a:r>
              <a:rPr b="0" lang="en-US" sz="1200" spc="-1" strike="noStrike" u="sng">
                <a:solidFill>
                  <a:srgbClr val="000000"/>
                </a:solidFill>
                <a:uFillTx/>
                <a:latin typeface="Arial"/>
              </a:rPr>
              <a:t>Surely, their </a:t>
            </a:r>
            <a:r>
              <a:rPr b="1" lang="en-US" sz="1200" spc="-1" strike="noStrike" u="sng">
                <a:solidFill>
                  <a:srgbClr val="000000"/>
                </a:solidFill>
                <a:uFillTx/>
                <a:latin typeface="Arial"/>
              </a:rPr>
              <a:t>moral obligation</a:t>
            </a:r>
            <a:r>
              <a:rPr b="0" lang="en-US" sz="1200" spc="-1" strike="noStrike" u="sng">
                <a:solidFill>
                  <a:srgbClr val="000000"/>
                </a:solidFill>
                <a:uFillTx/>
                <a:latin typeface="Arial"/>
              </a:rPr>
              <a:t> is to work toward feasible alternatives</a:t>
            </a:r>
            <a:r>
              <a:rPr b="0" lang="en-US" sz="1200" spc="-1" strike="noStrike">
                <a:solidFill>
                  <a:srgbClr val="000000"/>
                </a:solidFill>
                <a:latin typeface="Arial"/>
              </a:rPr>
              <a:t>.</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ol S. Steiker; Stanford Law Review, Vol. 58, 2005. “No, Capital Punishment Is Not Morally Required: Deterrence, Deontology, and the Death Penalt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295280"/>
            <a:ext cx="7772400" cy="4530960"/>
          </a:xfrm>
          <a:prstGeom prst="rect">
            <a:avLst/>
          </a:prstGeom>
          <a:noFill/>
          <a:ln w="0">
            <a:noFill/>
          </a:ln>
        </p:spPr>
        <p:txBody>
          <a:bodyPr lIns="90000" rIns="90000" tIns="46800" bIns="46800" anchor="t">
            <a:normAutofit fontScale="87000"/>
          </a:bodyPr>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ourth, the death penalty acts as a signal to society that it permissible to kill.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just society has a moral obligation to refrain from capital punishment because the deat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alty symbolically justifies killing and the state will use the power of the death penalty in unjust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kill in the name of justice.</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Lloyd Steffen elaborates,</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just society has a moral obligation to refrain from capital punishment, because the deat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alty symbolically justifies killing. </a:t>
            </a:r>
            <a:r>
              <a:rPr b="0" lang="en-US" sz="900" spc="-1" strike="noStrike">
                <a:solidFill>
                  <a:srgbClr val="000000"/>
                </a:solidFill>
                <a:latin typeface="Arial"/>
              </a:rPr>
              <a:t>Plus and</a:t>
            </a:r>
            <a:r>
              <a:rPr b="0" lang="en-US" sz="1400" spc="-1" strike="noStrike">
                <a:solidFill>
                  <a:srgbClr val="000000"/>
                </a:solidFill>
                <a:latin typeface="Arial"/>
              </a:rPr>
              <a:t> the state will use power of the death penalty in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just ways to kill in the name of justice. </a:t>
            </a:r>
            <a:endParaRPr b="0" lang="en-US" sz="14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question we must ask, beyond the moral analysis considered up to this point, is what the death penalty actually means as a symbol. Is it an </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ffective symbol for justice, or does it draw its power as a symbol from another symbolic locus another center of meaning and value?</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ymbolic appeal that capital punishment makes in claim to be just is simple enough to understand, for if justice means returning the offenders </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ir deserts, then the death penalty is the returns desert of an extreme punishment for an extreme crime.  The statement “a life for a </a:t>
            </a:r>
            <a:endParaRPr b="0" lang="en-US" sz="9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fe” makes a problem arise.</a:t>
            </a:r>
            <a:r>
              <a:rPr b="0" lang="en-US" sz="1400" spc="-1" strike="noStrike">
                <a:solidFill>
                  <a:srgbClr val="000000"/>
                </a:solidFill>
                <a:latin typeface="Arial"/>
              </a:rPr>
              <a:t> The death penalty is an instrument of state policy and action, and it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bol power gets deeper than association with retributive justice; in fact since I can be used a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strument of state repression, its deeper symbolic value must be said to lie in the value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yond any requirements of justice. The heart of the matter at the level of symbol is that the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th penalty represents a rare instance of legitimated killing—like just war, tyrannicide, and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defense The death penalty as a symbol transforms moral meaning and authorizes suc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lling, and does so in the in the face of our ordinary moral propitiations against such killing;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inarily moral prohibited killings of members of the moral community become permitted act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uthorization may be sought after in the name of justice, but justice may be effected by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means; and the power to execute, once claimed, can be—and has been—used to effect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s that have nothing to do with serving justice.</a:t>
            </a:r>
            <a:endParaRPr b="0" lang="en-US" sz="1400" spc="-1" strike="noStrike">
              <a:solidFill>
                <a:srgbClr val="000000"/>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loyd Steffen, Prof. Of religious &amp; chaplain, Lehigh University. 1998, page 143-4</a:t>
            </a:r>
            <a:endParaRPr b="0" lang="en-US" sz="800" spc="-1" strike="noStrike">
              <a:solidFill>
                <a:srgbClr val="000000"/>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Executing justice, Cleveland: the pilgrim press, p143-4)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91440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nclusion</a:t>
            </a:r>
            <a:endParaRPr b="0" lang="en-US" sz="3600" spc="-1" strike="noStrike">
              <a:solidFill>
                <a:srgbClr val="000000"/>
              </a:solidFill>
              <a:latin typeface="Arial"/>
            </a:endParaRPr>
          </a:p>
        </p:txBody>
      </p:sp>
      <p:pic>
        <p:nvPicPr>
          <p:cNvPr id="225" name="" descr=""/>
          <p:cNvPicPr/>
          <p:nvPr/>
        </p:nvPicPr>
        <p:blipFill>
          <a:blip r:embed="rId1"/>
          <a:stretch/>
        </p:blipFill>
        <p:spPr>
          <a:xfrm>
            <a:off x="2819520" y="2209680"/>
            <a:ext cx="3581280" cy="35053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7" name="PlaceHolder 2"/>
          <p:cNvSpPr>
            <a:spLocks noGrp="1"/>
          </p:cNvSpPr>
          <p:nvPr>
            <p:ph/>
          </p:nvPr>
        </p:nvSpPr>
        <p:spPr>
          <a:xfrm>
            <a:off x="914400" y="228240"/>
            <a:ext cx="7772400" cy="5715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Conclusio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usually unnecessary, but if you feel you can sum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your case is a rhetorically compelling way, go for i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don't worry about having a conclusion. Yo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won't have time for one anywa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15-20 second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line should be remembered (memorize if at al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宋体"/>
              </a:rPr>
              <a:t> </a:t>
            </a:r>
            <a:r>
              <a:rPr b="0" lang="en-US" sz="4200" spc="-1" strike="noStrike">
                <a:solidFill>
                  <a:srgbClr val="330033"/>
                </a:solidFill>
                <a:latin typeface="Times New Roman"/>
                <a:ea typeface="宋体"/>
              </a:rPr>
              <a:t>THE CASE! </a:t>
            </a:r>
            <a:endParaRPr b="0" lang="en-US" sz="4200" spc="-1" strike="noStrike">
              <a:solidFill>
                <a:srgbClr val="330033"/>
              </a:solidFill>
              <a:latin typeface="Times New Roman"/>
            </a:endParaRPr>
          </a:p>
        </p:txBody>
      </p:sp>
      <p:sp>
        <p:nvSpPr>
          <p:cNvPr id="229" name="PlaceHolder 2"/>
          <p:cNvSpPr>
            <a:spLocks noGrp="1"/>
          </p:cNvSpPr>
          <p:nvPr>
            <p:ph/>
          </p:nvPr>
        </p:nvSpPr>
        <p:spPr>
          <a:xfrm>
            <a:off x="914400" y="1600200"/>
            <a:ext cx="7772400" cy="502920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ffirm/I negate</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the resolution word for word</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key term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ptional)</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amework – observations and analysi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value</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criterion</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is/Tag line/Contention(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onclus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ther Thoughts</a:t>
            </a:r>
            <a:endParaRPr b="0" lang="en-US" sz="3600" spc="-1" strike="noStrike">
              <a:solidFill>
                <a:srgbClr val="330033"/>
              </a:solidFill>
              <a:latin typeface="Times New Roman"/>
            </a:endParaRPr>
          </a:p>
        </p:txBody>
      </p:sp>
      <p:sp>
        <p:nvSpPr>
          <p:cNvPr id="23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tandard argument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s that are evaluated before the standard</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274680"/>
            <a:ext cx="7696080" cy="582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verview</a:t>
            </a:r>
            <a:br>
              <a:rPr sz="3600"/>
            </a:br>
            <a:br>
              <a:rPr sz="2500"/>
            </a:br>
            <a:br>
              <a:rPr sz="2500"/>
            </a:br>
            <a:r>
              <a:rPr b="0" lang="en-US" sz="2500" spc="-1" strike="noStrike">
                <a:solidFill>
                  <a:srgbClr val="330033"/>
                </a:solidFill>
                <a:latin typeface="Times New Roman"/>
              </a:rPr>
              <a:t>The introduction is designed to grab the judge's attention and lend emotional support to the position you are about to take. It can be a </a:t>
            </a:r>
            <a:r>
              <a:rPr b="0" lang="en-US" sz="2500" spc="-1" strike="noStrike" u="sng">
                <a:solidFill>
                  <a:srgbClr val="330033"/>
                </a:solidFill>
                <a:uFillTx/>
                <a:latin typeface="Times New Roman"/>
              </a:rPr>
              <a:t>quote</a:t>
            </a:r>
            <a:r>
              <a:rPr b="0" lang="en-US" sz="2500" spc="-1" strike="noStrike">
                <a:solidFill>
                  <a:srgbClr val="330033"/>
                </a:solidFill>
                <a:latin typeface="Times New Roman"/>
              </a:rPr>
              <a:t> or descriptive paragraph, analogy, or just about anything else. It should lead directly to your side of the resolution, one of your points, or your value. It is best to end the introduction with the resolution, stating something like: For this reason, I stand firmly in support of today's resolution, that... </a:t>
            </a:r>
            <a:br>
              <a:rPr sz="2500"/>
            </a:br>
            <a:endParaRPr b="0" lang="en-US" sz="25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3" name="PlaceHolder 2"/>
          <p:cNvSpPr>
            <a:spLocks noGrp="1"/>
          </p:cNvSpPr>
          <p:nvPr>
            <p:ph/>
          </p:nvPr>
        </p:nvSpPr>
        <p:spPr>
          <a:xfrm>
            <a:off x="914400" y="228240"/>
            <a:ext cx="7772400" cy="4530600"/>
          </a:xfrm>
          <a:prstGeom prst="rect">
            <a:avLst/>
          </a:prstGeom>
          <a:noFill/>
          <a:ln w="0">
            <a:noFill/>
          </a:ln>
        </p:spPr>
        <p:txBody>
          <a:bodyPr lIns="90000" rIns="90000" tIns="46800" bIns="46800" anchor="t">
            <a:normAutofit fontScale="68000"/>
          </a:bodyPr>
          <a:p>
            <a:pPr marL="23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ved: The use of the state’s power of Eminent Domain to promote private enterprise is </a:t>
            </a:r>
            <a:endParaRPr b="0" lang="en-US" sz="1400" spc="-1" strike="noStrike">
              <a:solidFill>
                <a:srgbClr val="000000"/>
              </a:solidFill>
              <a:latin typeface="Arial"/>
            </a:endParaRPr>
          </a:p>
          <a:p>
            <a:pPr marL="23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just. </a:t>
            </a:r>
            <a:endParaRPr b="0" lang="en-US" sz="14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e negative case I am going to offer two reasons to reject th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ution: the resolution is a normative claim that declares a specific stat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as unjust. Implied within any normative claim is a judgment as to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n agent ought to act. </a:t>
            </a:r>
            <a:r>
              <a:rPr b="0" lang="en-US" sz="1600" spc="-1" strike="noStrike" u="sng">
                <a:solidFill>
                  <a:srgbClr val="000000"/>
                </a:solidFill>
                <a:uFillTx/>
                <a:latin typeface="Arial"/>
              </a:rPr>
              <a:t>Therefore, any normative assessment of an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ction presupposes agency on the part of the actor</a:t>
            </a:r>
            <a:r>
              <a:rPr b="0" lang="en-US" sz="1600" spc="-1" strike="noStrike">
                <a:solidFill>
                  <a:srgbClr val="000000"/>
                </a:solidFill>
                <a:latin typeface="Arial"/>
              </a:rPr>
              <a:t>. You would never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e the act of hurricane as unjust, because the hurricane can't make a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sion to change its action. The only way in which the state could b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ed an autonomous agent, is if the agency of it citizens i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ed into policy making. Yet, the bureaucratic process of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glomerating mass opinion into a single government policy, ensures tha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gency of a state's citizens is not reflected at the policy level. As such,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he state cannot be considered an agent, and therefore state action ca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 labeled unjus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a:t>
            </a:r>
            <a:r>
              <a:rPr b="0" lang="en-US" sz="1600" spc="-1" strike="noStrike" u="sng">
                <a:solidFill>
                  <a:srgbClr val="000000"/>
                </a:solidFill>
                <a:uFillTx/>
                <a:latin typeface="Arial"/>
              </a:rPr>
              <a:t>it is impossible for the state's use of their power of emine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omain to promote private enterprise.</a:t>
            </a:r>
            <a:r>
              <a:rPr b="0" lang="en-US" sz="1600" spc="-1" strike="noStrike">
                <a:solidFill>
                  <a:srgbClr val="000000"/>
                </a:solidFill>
                <a:latin typeface="Arial"/>
              </a:rPr>
              <a:t> Private enterprise specifically refer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economic activity which is “private,” or independent of the governme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When the government subsidizes an industry by giving it money, it i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universally understood as a step away from private enterprise and step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owards a nationalized economy.</a:t>
            </a:r>
            <a:r>
              <a:rPr b="0" lang="en-US" sz="1600" spc="-1" strike="noStrike">
                <a:solidFill>
                  <a:srgbClr val="000000"/>
                </a:solidFill>
                <a:latin typeface="Arial"/>
              </a:rPr>
              <a:t> The use of eminent domain to giv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to corporations is in no way different; the government is using it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s to intervene in the economy and therefore is not promoting privat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As such, the resolution cannot be affirmed because one ca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e an action unjust, if that action can logically never happen.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wo overviews demonstrate unique assumptions of the resolution and </a:t>
            </a:r>
            <a:endParaRPr b="0" lang="en-US" sz="1600" spc="-1" strike="noStrike">
              <a:solidFill>
                <a:srgbClr val="000000"/>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es them fals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de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hing that must be done to w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ferences</a:t>
            </a:r>
            <a:br>
              <a:rPr sz="3600"/>
            </a:br>
            <a:endParaRPr b="0" lang="en-US" sz="3600" spc="-1" strike="noStrike">
              <a:solidFill>
                <a:srgbClr val="330033"/>
              </a:solidFill>
              <a:latin typeface="Times New Roman"/>
            </a:endParaRPr>
          </a:p>
        </p:txBody>
      </p:sp>
      <p:sp>
        <p:nvSpPr>
          <p:cNvPr id="2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 Construct a Lincoln Douglas Debate Cas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wikihow.com/Construct-a-Lincoln-Douglas-Debate-Cas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LD Debate [PDF],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Cherian Koshy and Dr. Seth Halvorso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flonline.org/uploads/CoachingResources/IntroductiontoLDDebateOnlineText.pdf</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c  UIl</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162560" cy="472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Introductions</a:t>
            </a:r>
            <a:br>
              <a:rPr sz="3600"/>
            </a:br>
            <a:br>
              <a:rPr sz="2900"/>
            </a:br>
            <a:br>
              <a:rPr sz="2900"/>
            </a:br>
            <a:br>
              <a:rPr sz="2900"/>
            </a:br>
            <a:br>
              <a:rPr sz="2900"/>
            </a:br>
            <a:r>
              <a:rPr b="0" lang="en-US" sz="2900" spc="-1" strike="noStrike">
                <a:solidFill>
                  <a:srgbClr val="330033"/>
                </a:solidFill>
                <a:latin typeface="Times New Roman"/>
                <a:ea typeface="宋体"/>
              </a:rPr>
              <a:t>	</a:t>
            </a:r>
            <a:r>
              <a:rPr b="0" lang="en-US" sz="2900" spc="-1" strike="noStrike">
                <a:solidFill>
                  <a:srgbClr val="330033"/>
                </a:solidFill>
                <a:latin typeface="Times New Roman"/>
                <a:ea typeface="宋体"/>
              </a:rPr>
              <a:t>State the resolution as it is worded </a:t>
            </a:r>
            <a:br>
              <a:rPr sz="2900"/>
            </a:br>
            <a:r>
              <a:rPr b="0" lang="en-US" sz="2900" spc="-1" strike="noStrike">
                <a:solidFill>
                  <a:srgbClr val="330033"/>
                </a:solidFill>
                <a:latin typeface="Times New Roman"/>
                <a:ea typeface="宋体"/>
              </a:rPr>
              <a:t>	</a:t>
            </a:r>
            <a:r>
              <a:rPr b="0" lang="en-US" sz="2900" spc="-1" strike="noStrike">
                <a:solidFill>
                  <a:srgbClr val="330033"/>
                </a:solidFill>
                <a:latin typeface="Times New Roman"/>
                <a:ea typeface="宋体"/>
              </a:rPr>
              <a:t>Do not add “not” if you are negating</a:t>
            </a:r>
            <a:br>
              <a:rPr sz="2900"/>
            </a:br>
            <a:endParaRPr b="0" lang="en-US" sz="29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
          <p:cNvSpPr/>
          <p:nvPr/>
        </p:nvSpPr>
        <p:spPr>
          <a:xfrm>
            <a:off x="838080" y="379800"/>
            <a:ext cx="6629400" cy="329148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9900"/>
                </a:solidFill>
                <a:uFillTx/>
                <a:latin typeface="Arial"/>
              </a:rPr>
              <a:t>AT A MINIMUM</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affirm/I negat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State the resolution word for word</a:t>
            </a:r>
            <a:r>
              <a:rPr b="0" lang="en-US" sz="4400" spc="-1" strike="noStrike">
                <a:solidFill>
                  <a:srgbClr val="000000"/>
                </a:solidFill>
                <a:latin typeface="Arial"/>
                <a:ea typeface="宋体"/>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18:09:13Z</dcterms:created>
  <dc:creator>Tim Cook</dc:creator>
  <dc:description/>
  <dc:language>en-US</dc:language>
  <cp:lastModifiedBy>Tim Cook</cp:lastModifiedBy>
  <dcterms:modified xsi:type="dcterms:W3CDTF">2008-07-04T02:06:31Z</dcterms:modified>
  <cp:revision>64</cp:revision>
  <dc:subject/>
  <dc:title>Slide 1</dc:title>
</cp:coreProperties>
</file>