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20251-B7D6-47E6-B2BB-D9033FC28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66D96-9CAA-4CF6-8572-D3BB8E784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38E69-AA0A-42ED-A025-29DAC5FD5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CEBBB-57EE-446D-84C1-8CF24C989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2BE0E-59F4-463F-B971-8F159F998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7A4A4-6BB9-4FD7-885F-2F7FB3377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54B9D-6C5D-4749-8B4E-9D9560946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2B978-53F2-4E1E-A931-C1C9B3987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AF8DE-9BBF-44C0-9E9D-C24FBAC7C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09D7A-7655-470F-9208-41E355E7C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63EEC-5E67-45DD-9CF2-5D3B0CFB1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C857A-BD51-4581-A741-5046666CB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947A1-725C-412F-B760-75BB567E1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D34C5-CD1C-405F-9569-9826C1E40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3879B-E8A4-4228-973E-0347BE7A8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F0362-DA16-48F3-8E31-6B87A91FB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9F973-8110-48DE-92E9-6CD51AF42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5713D-A1F5-4581-BED6-24BDC1DFF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EE5BE-0ED2-4D95-9C2B-85D2DC78A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DC3DA-75FC-447C-9A7D-B1B19641B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E3427-3C34-4839-94DA-B10F4DB86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954AE-666F-44D8-BA4E-ECC800E50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3A8D6-8C3F-47B7-B9A0-9E42464AD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EFC0A-BC1F-4CEE-9354-1DC3CE3CD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AD7E-497E-4677-8788-2AFC0A8D52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E61A-782D-49E4-83EC-46DCF6D648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2640"/>
            <a:ext cx="6629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1"/>
                </a:solidFill>
                <a:latin typeface="Times New Roman"/>
              </a:rPr>
              <a:t>Lincoln-Douglas Debate</a:t>
            </a:r>
            <a:br>
              <a:rPr sz="4800"/>
            </a:br>
            <a:r>
              <a:rPr b="1" lang="en-US" sz="4800" spc="-1" strike="noStrike">
                <a:solidFill>
                  <a:srgbClr val="ffffe1"/>
                </a:solidFill>
                <a:latin typeface="Times New Roman"/>
              </a:rPr>
              <a:t>“Case Writing”</a:t>
            </a:r>
            <a:endParaRPr b="0" lang="en-US" sz="4800" spc="-1" strike="noStrike">
              <a:solidFill>
                <a:srgbClr val="330033"/>
              </a:solidFill>
              <a:latin typeface="Times New Roman"/>
            </a:endParaRPr>
          </a:p>
        </p:txBody>
      </p:sp>
      <p:pic>
        <p:nvPicPr>
          <p:cNvPr id="98" name="" descr=""/>
          <p:cNvPicPr/>
          <p:nvPr/>
        </p:nvPicPr>
        <p:blipFill>
          <a:blip r:embed="rId1"/>
          <a:stretch/>
        </p:blipFill>
        <p:spPr>
          <a:xfrm>
            <a:off x="3672000" y="3962520"/>
            <a:ext cx="2257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
          <p:cNvSpPr/>
          <p:nvPr/>
        </p:nvSpPr>
        <p:spPr>
          <a:xfrm>
            <a:off x="1143000" y="639000"/>
            <a:ext cx="6705720" cy="5351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United States Supreme Court Justice Byron Wh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purpose of [the 4th] Amendment, as recognized in countless decisions of this Court, is to safeguard the privacy and security of individuals against arbitrary invasions by governmental offic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ron White, Associate Justice, U.S. Supreme Court, Opinion of the Court, New Jersey v. T.L.O., 469 U.S. 325 (1985) pg. 33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ritical role of the 4th Amendment, I must affirm today’s re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ved: Drug testing of high school extracurricular activity participants is justifi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228240"/>
            <a:ext cx="7772400" cy="5902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only obligation I have a right to assume, is to do at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ime what I think right.”</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rote Henry David Thoreau in his 19th centur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ay </a:t>
            </a:r>
            <a:r>
              <a:rPr b="0" i="1" lang="en-US" sz="2400" spc="-1" strike="noStrike">
                <a:solidFill>
                  <a:srgbClr val="000000"/>
                </a:solidFill>
                <a:latin typeface="Arial"/>
              </a:rPr>
              <a:t>On Civil Disobedience</a:t>
            </a:r>
            <a:r>
              <a:rPr b="0" lang="en-US" sz="2400" spc="-1" strike="noStrike">
                <a:solidFill>
                  <a:srgbClr val="000000"/>
                </a:solidFill>
                <a:latin typeface="Arial"/>
              </a:rPr>
              <a:t>. Thoreau not onl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the role an individual must fulfill as a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cientious member of society, he also described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 consequences lived by those who never attempt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y societies conscienc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 stand resolved: “An individual’s obligation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ought to outweigh societies obligation to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solutional Interpretation</a:t>
            </a:r>
            <a:endParaRPr b="0" lang="en-US" sz="3600" spc="-1" strike="noStrike">
              <a:solidFill>
                <a:srgbClr val="000000"/>
              </a:solidFill>
              <a:latin typeface="Arial"/>
            </a:endParaRPr>
          </a:p>
        </p:txBody>
      </p:sp>
      <p:pic>
        <p:nvPicPr>
          <p:cNvPr id="116" name="" descr=""/>
          <p:cNvPicPr/>
          <p:nvPr/>
        </p:nvPicPr>
        <p:blipFill>
          <a:blip r:embed="rId1"/>
          <a:stretch/>
        </p:blipFill>
        <p:spPr>
          <a:xfrm>
            <a:off x="3505320" y="2438280"/>
            <a:ext cx="2768400" cy="29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Overview</a:t>
            </a:r>
            <a:br>
              <a:rPr sz="3800"/>
            </a:b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ramework/Resolutional Analysis/Observa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the most logical place to put an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formation or arguments pertinent t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nderstanding how you are viewing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he easiest way to transition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just to say, "The resolu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or "My posi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Definitions</a:t>
            </a:r>
            <a:endParaRPr b="0" lang="en-US" sz="36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definitions of the words in the resolution, and no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s. Anything else that needs to be defined should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e when the new word or concept is presented in cas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don't define every word in the resolution, only th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ig ones.  Lastly, in the case of resolutional phrases (a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pposed to single words) like 'democratic ideal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ways try to find a definition of the phrase, rather than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ombining the definitions of the individual words. If you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t find that, though, defining the parts is oka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General Considerations</a:t>
            </a:r>
            <a:r>
              <a:rPr b="0" lang="en-US" sz="4200" spc="-1" strike="noStrike">
                <a:solidFill>
                  <a:srgbClr val="330033"/>
                </a:solidFill>
                <a:latin typeface="Times New Roman"/>
                <a:ea typeface="宋体"/>
              </a:rPr>
              <a:t> </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be abusive with your definitions (use the reasonability standard her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nly key words and phrases you don’t have to define ALL words in the resolution – some people tend to go overboar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complete source citations (even if you don’t read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textual definitions whenever possibl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impl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ight want to discuss what the word is 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31590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685800" y="228240"/>
            <a:ext cx="77724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fine key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ource for defini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finitions to strategically set up c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 – observations and analys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narrow or specify position and justify it</a:t>
            </a:r>
            <a:endParaRPr b="0" lang="en-US" sz="2400" spc="-1" strike="noStrike">
              <a:solidFill>
                <a:srgbClr val="000000"/>
              </a:solidFill>
              <a:latin typeface="Arial"/>
            </a:endParaRPr>
          </a:p>
          <a:p>
            <a:pPr marL="343080" indent="-343080">
              <a:lnSpc>
                <a:spcPct val="8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d to decide burdens in the round</a:t>
            </a:r>
            <a:r>
              <a:rPr b="0" lang="en-US" sz="3600" spc="-1" strike="noStrike">
                <a:solidFill>
                  <a:srgbClr val="000000"/>
                </a:solidFill>
                <a:latin typeface="Arial"/>
                <a:ea typeface="宋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text of the resolution</a:t>
            </a:r>
            <a:br>
              <a:rPr sz="3600"/>
            </a:br>
            <a:endParaRPr b="0" lang="en-US" sz="36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d: A just society ought not use the death penalty as a form of punish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ust society: this means that we are not tied down to proving that the application of the death penalty in a certain time or place is good, but that a just society ought or ought not use the death penalty.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assume the resolution has some kind of implicit limit (i.e. “We should only talk about examples from America.”) without some kind of textual clue. In this topic, there is no geographic context.</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at context IS implicit in the resolution: The actor is almost certainly a government or “state” in the just soc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685800" y="228600"/>
            <a:ext cx="7772400" cy="63244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solved: Sanctuary cities are morally justifi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larity I offer the following 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a Anderson defines </a:t>
            </a:r>
            <a:r>
              <a:rPr b="0" lang="en-US" sz="2000" spc="-1" strike="noStrike" u="sng">
                <a:solidFill>
                  <a:srgbClr val="000000"/>
                </a:solidFill>
                <a:uFillTx/>
                <a:latin typeface="Arial"/>
              </a:rPr>
              <a:t>Sanctuary cities</a:t>
            </a:r>
            <a:r>
              <a:rPr b="0" lang="en-US" sz="2000" spc="-1" strike="noStrike">
                <a:solidFill>
                  <a:srgbClr val="000000"/>
                </a:solidFill>
                <a:latin typeface="Arial"/>
              </a:rPr>
              <a:t> as cities that adopt a don’t ask, don’t tell policy towards the immigration status of people when it comes to most municipal benefits and services. </a:t>
            </a:r>
            <a:r>
              <a:rPr b="0" lang="en-US" sz="2000" spc="-1" strike="noStrike">
                <a:solidFill>
                  <a:srgbClr val="ff0000"/>
                </a:solidFill>
                <a:latin typeface="Arial"/>
              </a:rPr>
              <a:t>The policies generally don’t extend to those arrested for criminal offenses or convicted crimes.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erson, Lisa, “'Sanctuary cities' draw fire, no light,” Chicago Tribune, Tribune national correspondent, December 12, 2007,</a:t>
            </a: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ea typeface="宋体"/>
              </a:rPr>
              <a:t>The implication</a:t>
            </a:r>
            <a:r>
              <a:rPr b="0" lang="en-US" sz="2000" spc="-1" strike="noStrike">
                <a:solidFill>
                  <a:srgbClr val="ff0000"/>
                </a:solidFill>
                <a:latin typeface="Arial"/>
                <a:ea typeface="宋体"/>
              </a:rPr>
              <a:t> of this definition is that crime isn’t going to be perpetuated through sanctuary cities. The government still has the ability to punish illegal immigrants through prison or deportation if they commit a criminal offen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 name="PlaceHolder 2"/>
          <p:cNvSpPr>
            <a:spLocks noGrp="1"/>
          </p:cNvSpPr>
          <p:nvPr>
            <p:ph/>
          </p:nvPr>
        </p:nvSpPr>
        <p:spPr>
          <a:xfrm>
            <a:off x="762120" y="304560"/>
            <a:ext cx="7772400" cy="6019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d: A just government should provide health care to its citize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llow me to define a few term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t>
            </a:r>
            <a:r>
              <a:rPr b="0" lang="en-US" sz="1600" spc="-1" strike="noStrike" u="sng">
                <a:solidFill>
                  <a:srgbClr val="000000"/>
                </a:solidFill>
                <a:uFillTx/>
                <a:latin typeface="Arial"/>
              </a:rPr>
              <a:t>Provide</a:t>
            </a:r>
            <a:r>
              <a:rPr b="0" lang="en-US" sz="1600" spc="-1" strike="noStrike">
                <a:solidFill>
                  <a:srgbClr val="000000"/>
                </a:solidFill>
                <a:latin typeface="Arial"/>
              </a:rPr>
              <a:t> as to supply with.</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arta World English Dictionary</a:t>
            </a:r>
            <a:endParaRPr b="0" lang="en-US" sz="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 variety of ways the state could provide health care to their citize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The implication for the round is the affirmative does not necessarily have to defend socialized medicine.  Since the resolution doesn’t specify the way in which the government should provide health care, indicts of specific systems do not actually address the normative question of the resolution. Any system enacted poorly or ineffectively would give way to these arguments, but these arguments do not address the normative question in the resolution - should a state provide health ca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im Cook</a:t>
            </a:r>
            <a:br>
              <a:rPr sz="3800"/>
            </a:br>
            <a:r>
              <a:rPr b="0" lang="en-US" sz="3800" spc="-1" strike="noStrike">
                <a:solidFill>
                  <a:srgbClr val="330033"/>
                </a:solidFill>
                <a:latin typeface="Times New Roman"/>
              </a:rPr>
              <a:t>Salado High School</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xtemptopicanalysis.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xtemptopicanalysis.com/LD%20Debate.asp</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s in L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Douglas Case Writi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tandard</a:t>
            </a:r>
            <a:endParaRPr b="0" lang="en-US" sz="3600" spc="-1" strike="noStrike">
              <a:solidFill>
                <a:srgbClr val="000000"/>
              </a:solidFill>
              <a:latin typeface="Arial"/>
            </a:endParaRPr>
          </a:p>
        </p:txBody>
      </p:sp>
      <p:pic>
        <p:nvPicPr>
          <p:cNvPr id="133" name="" descr=""/>
          <p:cNvPicPr/>
          <p:nvPr/>
        </p:nvPicPr>
        <p:blipFill>
          <a:blip r:embed="rId1"/>
          <a:stretch/>
        </p:blipFill>
        <p:spPr>
          <a:xfrm>
            <a:off x="3505320" y="2895480"/>
            <a:ext cx="304776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宋体"/>
              </a:rPr>
              <a:t>Overview</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tandard is the value and criteri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lationship the debater presents to prov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rue or false.  All arguments shou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ink to the standard and are “weighed” by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7" name="PlaceHolder 2"/>
          <p:cNvSpPr>
            <a:spLocks noGrp="1"/>
          </p:cNvSpPr>
          <p:nvPr>
            <p:ph/>
          </p:nvPr>
        </p:nvSpPr>
        <p:spPr>
          <a:xfrm>
            <a:off x="838080" y="456840"/>
            <a:ext cx="7772400" cy="5715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the round, something you wan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is the first part of the standards deb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s are principles we apply to determine i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mething is good or bad, right or wrong, worthwhile o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t. Values are not tangible things you can touch or pu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 a shelf. Values cannot be proven true or false, and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s sometimes hard to discuss them because they ar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stract concep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br>
              <a:rPr sz="3600"/>
            </a:br>
            <a:endParaRPr b="0" lang="en-US" sz="36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The first thing to keep in mind is not to make it too word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My value in today's round will b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The most important value in the round is my value o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ick with the simple 'My value is ______, because ________'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ere is where you will justify why yours is the better value. The bes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ay to do this is in terms of relevance to the topic. By that I mea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at you should explain why your value is what the resolution want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 to debate. It's usually based on wording in the resolution! Ex: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alue democratic ideals, because it is prescribed by the resolu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because they are the end specified by the resolu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 name="PlaceHolder 2"/>
          <p:cNvSpPr>
            <a:spLocks noGrp="1"/>
          </p:cNvSpPr>
          <p:nvPr>
            <p:ph/>
          </p:nvPr>
        </p:nvSpPr>
        <p:spPr>
          <a:xfrm>
            <a:off x="838080" y="30456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on Valu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  Justi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reedom/ Liber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if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uman Righ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mocrac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quali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ocietal Welf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egitimate Governme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ividualism / Autonom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afe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ogr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ivac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Philosopher’s idea</a:t>
            </a:r>
            <a:endParaRPr b="0" lang="en-US" sz="36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Keep in mind that using a philosopher’s idea 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value is generally a very bad idea. Most of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ime that’s not even a value! “John Lock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ocial Contract” is not a value! Something lik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en-US" sz="2800" spc="-1" strike="noStrike">
                <a:solidFill>
                  <a:srgbClr val="000000"/>
                </a:solidFill>
                <a:latin typeface="Arial"/>
                <a:ea typeface="宋体"/>
              </a:rPr>
              <a:t>social welfare” or “legitimate govern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ould be more appropri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fontScale="94000"/>
          </a:bodyPr>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choose</a:t>
            </a:r>
            <a:r>
              <a:rPr b="0" lang="en-US" sz="3600" spc="-1" strike="noStrike">
                <a:solidFill>
                  <a:srgbClr val="000099"/>
                </a:solidFill>
                <a:latin typeface="Arial"/>
              </a:rPr>
              <a:t> an appropriate value:</a:t>
            </a:r>
            <a:endParaRPr b="0" lang="en-US" sz="3600" spc="-1" strike="noStrike">
              <a:solidFill>
                <a:srgbClr val="000000"/>
              </a:solidFill>
              <a:latin typeface="Arial"/>
            </a:endParaRPr>
          </a:p>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dentif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Drug testing of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urricular activity participants is justified, the foc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debate should stem from the values associated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drug testing of extracurricular participants. Th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determine which values will be best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b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urthermore if the resolution reads: “The public’s righ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know is of greater value than the right to privacy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for public office” we find two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ey are the public’s right to know and t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right to privacy, and you must determine 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oth sides what value best enhances both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us if the resolution is comparative tw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fferent values may be appropri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dentify the evaluative te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Affirmative a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are justified in American Society,”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s should use the evaluative term, justified, to se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meters in determining the duties of eac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 in affirming or negating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ve term gives debaters a guideline i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what must be proved. In the abo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 justification must be proved. Thus the valu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jus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1" name="PlaceHolder 2"/>
          <p:cNvSpPr>
            <a:spLocks noGrp="1"/>
          </p:cNvSpPr>
          <p:nvPr>
            <p:ph/>
          </p:nvPr>
        </p:nvSpPr>
        <p:spPr>
          <a:xfrm>
            <a:off x="838080" y="228240"/>
            <a:ext cx="7772400" cy="6172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a:rPr>
              <a:t>How to </a:t>
            </a:r>
            <a:r>
              <a:rPr b="0" i="1" lang="en-US" sz="3600" spc="-1" strike="noStrike" u="sng">
                <a:solidFill>
                  <a:srgbClr val="000099"/>
                </a:solidFill>
                <a:uFillTx/>
                <a:latin typeface="Arial"/>
              </a:rPr>
              <a:t>establish</a:t>
            </a:r>
            <a:r>
              <a:rPr b="0" i="1" lang="en-US" sz="3600" spc="-1" strike="noStrike">
                <a:solidFill>
                  <a:srgbClr val="000099"/>
                </a:solidFill>
                <a:latin typeface="Arial"/>
              </a:rPr>
              <a:t> a valu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vide an adequate and appropriate definition of your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values are abstract, and can ha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nterpretations by both debater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hen you give a value a specifi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needs to be giv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68560" y="340920"/>
            <a:ext cx="515448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Parts of a Case</a:t>
            </a:r>
            <a:r>
              <a:rPr b="0" lang="en-US" sz="4800" spc="-1" strike="noStrike">
                <a:solidFill>
                  <a:srgbClr val="330033"/>
                </a:solidFill>
                <a:latin typeface="Times New Roman"/>
              </a:rPr>
              <a:t> </a:t>
            </a:r>
            <a:br>
              <a:rPr sz="4800"/>
            </a:br>
            <a:endParaRPr b="0" lang="en-US" sz="4800" spc="-1" strike="noStrike">
              <a:solidFill>
                <a:srgbClr val="330033"/>
              </a:solidFill>
              <a:latin typeface="Times New Roman"/>
            </a:endParaRPr>
          </a:p>
        </p:txBody>
      </p:sp>
      <p:sp>
        <p:nvSpPr>
          <p:cNvPr id="102" name="PlaceHolder 2"/>
          <p:cNvSpPr>
            <a:spLocks noGrp="1"/>
          </p:cNvSpPr>
          <p:nvPr>
            <p:ph/>
          </p:nvPr>
        </p:nvSpPr>
        <p:spPr>
          <a:xfrm>
            <a:off x="2133720" y="990360"/>
            <a:ext cx="6400800" cy="51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ntroduc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Resolutional Interpret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Standard (Value/Criteri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ontention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onclu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example look at the value such as legitim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overnment. Interpretations can be varied on wha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is. Some could interpre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s individual rights, as others could interpre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provid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curity for its citizens. Thus a definition must be giv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give your opponent and your judge an understand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f what a legitimate government actually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2388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how the value’s resolutional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al implications simply show why you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 is intrinsic to the resolution. As a debat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must link how the value is related to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What words in the resolution brough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to your value? Indicate those words wh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are writing.  For example, since the re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uestions what a just punishment is the value could 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jus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Show the value’s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s give an understanding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the value. It also gives your judg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dea of why your value is needed and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In other words, justify your sele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best, most important, supreme o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for the deb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your value is morality, you could s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 Professor Mark Cooray establishe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m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thout morality all kinds of injustices and oppress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individual persons are sanctioned. No societ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function efficiently or humanely and no civiliz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ndure without this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380880"/>
            <a:ext cx="7772400" cy="453096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endParaRPr b="0" lang="en-US" sz="36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standard by which something can be measured or judged...” (UIL Guide Page 10)</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way to measure or judge whether or not upholding the resolution achieves or enhances the value.”(UIL Guide Page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criterion is comparable to a filter.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re may be many ways to achieve justice, but this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e way to achieve it (through an action of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Your criterion serves as a concrete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an abstract value, such as justice.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can use "maximizing individual rights" as a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the value social welfare. It doesn't need to be 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hysical action, but must be concrete enough so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know how to achieve it, and there is little ambiguit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out this. Think of your value criterion as a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your val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The criterion</a:t>
            </a:r>
            <a:br>
              <a:rPr sz="3800"/>
            </a:br>
            <a:endParaRPr b="0" lang="en-US" sz="38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or "value criterion" is the conceptu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echanism the debater proposes to achieve and weig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Oftentimes, the debater will simply talk abou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so it is sometimes referred to a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ndard, in and of itself. </a:t>
            </a:r>
            <a:r>
              <a:rPr b="0" lang="en-US" sz="2400" spc="-1" strike="noStrike" u="sng">
                <a:solidFill>
                  <a:srgbClr val="000000"/>
                </a:solidFill>
                <a:uFillTx/>
                <a:latin typeface="Arial"/>
                <a:ea typeface="宋体"/>
              </a:rPr>
              <a:t>First and foremost, the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criterion is how the debater achieves the value</a:t>
            </a:r>
            <a:r>
              <a:rPr b="0" lang="en-US" sz="2400" spc="-1" strike="noStrike">
                <a:solidFill>
                  <a:srgbClr val="000000"/>
                </a:solidFill>
                <a:latin typeface="Arial"/>
                <a:ea typeface="宋体"/>
              </a:rPr>
              <a:t>.</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criterion will usually be stated as a gerund (upholding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system of checks and balances).</a:t>
            </a:r>
            <a:r>
              <a:rPr b="0" lang="en-US" sz="2800" spc="-1" strike="noStrike">
                <a:solidFill>
                  <a:srgbClr val="000000"/>
                </a:solidFill>
                <a:latin typeface="Arial"/>
                <a:ea typeface="宋体"/>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and criteria can be debated over whic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r a fairer debate, which o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ore relevant, if the burden is fulfill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ufficient, begs</a:t>
            </a:r>
            <a:r>
              <a:rPr b="0" lang="en-US" sz="2800" spc="-1" strike="noStrike">
                <a:solidFill>
                  <a:srgbClr val="000000"/>
                </a:solidFill>
                <a:latin typeface="Arial"/>
              </a:rPr>
              <a:t>,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overall the criterion is something you use to achie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value. Furthermore the criterion is the most critic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rt of the debate, because it’s the criterion everyth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hould impact back to. The criterion is what you use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igh the round and all arguments should stem from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deb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 do not win rounds but provide an excellent foundation in order to win round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what you must prove in order to wi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e what the other side may say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strongest arguments within the realm of the resolution – don’t select the weakest!</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rgument should be an independent reason why the judge should vote for you</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304920"/>
            <a:ext cx="7772400" cy="5486400"/>
          </a:xfrm>
          <a:prstGeom prst="rect">
            <a:avLst/>
          </a:prstGeom>
          <a:noFill/>
          <a:ln w="0">
            <a:noFill/>
          </a:ln>
        </p:spPr>
        <p:txBody>
          <a:bodyPr lIns="90000" rIns="90000" tIns="46800" bIns="46800" anchor="t">
            <a:normAutofit/>
          </a:bodyPr>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ow to </a:t>
            </a:r>
            <a:r>
              <a:rPr b="0" lang="en-US" sz="3200" spc="-1" strike="noStrike" u="sng">
                <a:solidFill>
                  <a:srgbClr val="000099"/>
                </a:solidFill>
                <a:uFillTx/>
                <a:latin typeface="Arial"/>
              </a:rPr>
              <a:t>choose and establish</a:t>
            </a:r>
            <a:r>
              <a:rPr b="0" lang="en-US" sz="3200" spc="-1" strike="noStrike">
                <a:solidFill>
                  <a:srgbClr val="000099"/>
                </a:solidFill>
                <a:latin typeface="Arial"/>
              </a:rPr>
              <a:t> an </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ppropriate criterion:</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Establish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 must prove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else you are not affirming or negating. This is tr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ecause if you are saying you value something, you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ust prove how you achieve this value in the context of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round. If your value is justice you can’t just say why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s important, you must also prove why your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riterion achieves just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Provide justificat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warrants under your criterion, why your criterion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important. The more justifications you give, th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offense as to why your standard is more importan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d why you should affirm or neg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7" name="PlaceHolder 2"/>
          <p:cNvSpPr>
            <a:spLocks noGrp="1"/>
          </p:cNvSpPr>
          <p:nvPr>
            <p:ph/>
          </p:nvPr>
        </p:nvSpPr>
        <p:spPr>
          <a:xfrm>
            <a:off x="914400" y="380520"/>
            <a:ext cx="7772400" cy="617220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T A MINIMUM</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tat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Link to resolu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Importance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Stat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criterion (this requires a bright line statement – how do you intend to meet it – how does your opponent violate it?) Spikes out </a:t>
            </a:r>
            <a:r>
              <a:rPr b="1" lang="en-US" sz="1800" spc="-1" strike="noStrike">
                <a:solidFill>
                  <a:srgbClr val="000000"/>
                </a:solidFill>
                <a:latin typeface="Arial"/>
              </a:rPr>
              <a:t>beg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Explain how is achieves the value, Spikes out </a:t>
            </a:r>
            <a:r>
              <a:rPr b="1" lang="en-US" sz="1800" spc="-1" strike="noStrike">
                <a:solidFill>
                  <a:srgbClr val="000000"/>
                </a:solidFill>
                <a:latin typeface="Arial"/>
              </a:rPr>
              <a:t>insufficient, “Necessary condition</a:t>
            </a:r>
            <a:r>
              <a:rPr b="0" lang="en-US" sz="1800" spc="-1" strike="noStrike">
                <a:solidFill>
                  <a:srgbClr val="000000"/>
                </a:solidFill>
                <a:latin typeface="Arial"/>
              </a:rPr>
              <a:t>” (i.e. it is impossible to achieve the value without achieving th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Justifica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st ways to justify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t’s the fundamental part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requisite for other end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t encompasses other ways to achie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330033"/>
              </a:solidFill>
              <a:latin typeface="Times New Roman"/>
            </a:endParaRPr>
          </a:p>
        </p:txBody>
      </p:sp>
      <p:sp>
        <p:nvSpPr>
          <p:cNvPr id="179"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 </a:t>
            </a:r>
            <a:r>
              <a:rPr b="0" lang="en-US" sz="2400" spc="-1" strike="noStrike" u="sng">
                <a:solidFill>
                  <a:srgbClr val="000000"/>
                </a:solidFill>
                <a:uFillTx/>
                <a:latin typeface="Arial"/>
                <a:ea typeface="宋体"/>
              </a:rPr>
              <a:t>value democratic ideals</a:t>
            </a:r>
            <a:r>
              <a:rPr b="0" lang="en-US" sz="2400" spc="-1" strike="noStrike">
                <a:solidFill>
                  <a:srgbClr val="000000"/>
                </a:solidFill>
                <a:latin typeface="Arial"/>
                <a:ea typeface="宋体"/>
              </a:rPr>
              <a:t>, because they are specified 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end goal of the resolution. What makes democrac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ique from all other forms of government is th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ower exists at the level of the people, instead of 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vel of a ruling body. Since the people rule themselv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only job of the government is to act as a righ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or and enforcer of laws, as the individual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capable of protecting herself against the rest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ciety. With that in mind, the </a:t>
            </a:r>
            <a:r>
              <a:rPr b="0" lang="en-US" sz="2400" spc="-1" strike="noStrike" u="sng">
                <a:solidFill>
                  <a:srgbClr val="000000"/>
                </a:solidFill>
                <a:uFillTx/>
                <a:latin typeface="Arial"/>
                <a:ea typeface="宋体"/>
              </a:rPr>
              <a:t>criterion</a:t>
            </a:r>
            <a:r>
              <a:rPr b="0" lang="en-US" sz="2400" spc="-1" strike="noStrike">
                <a:solidFill>
                  <a:srgbClr val="000000"/>
                </a:solidFill>
                <a:latin typeface="Arial"/>
                <a:ea typeface="宋体"/>
              </a:rPr>
              <a:t> most inherent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mocratic ideals in the context of the resolution is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maximization of rights protectio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1" name="PlaceHolder 2"/>
          <p:cNvSpPr>
            <a:spLocks noGrp="1"/>
          </p:cNvSpPr>
          <p:nvPr>
            <p:ph/>
          </p:nvPr>
        </p:nvSpPr>
        <p:spPr>
          <a:xfrm>
            <a:off x="914400" y="457200"/>
            <a:ext cx="7772400" cy="5029200"/>
          </a:xfrm>
          <a:prstGeom prst="rect">
            <a:avLst/>
          </a:prstGeom>
          <a:noFill/>
          <a:ln w="0">
            <a:noFill/>
          </a:ln>
        </p:spPr>
        <p:txBody>
          <a:bodyPr lIns="90000" rIns="90000" tIns="46800" bIns="46800" anchor="t">
            <a:normAutofit fontScale="78000"/>
          </a:bodyPr>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licit </a:t>
            </a:r>
            <a:r>
              <a:rPr b="0" lang="en-US" sz="2000" spc="-1" strike="noStrike" u="sng">
                <a:solidFill>
                  <a:srgbClr val="000000"/>
                </a:solidFill>
                <a:uFillTx/>
                <a:latin typeface="Arial"/>
              </a:rPr>
              <a:t>value is justice</a:t>
            </a:r>
            <a:r>
              <a:rPr b="0" lang="en-US" sz="2000" spc="-1" strike="noStrike">
                <a:solidFill>
                  <a:srgbClr val="000000"/>
                </a:solidFill>
                <a:latin typeface="Arial"/>
              </a:rPr>
              <a:t>. There are several different conception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what makes an action just. However all agree that violations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worth are unjust. According to liberal theories justice i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ed in the individual. Therefore any action that violates the moral</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of a human being would be unjust. </a:t>
            </a:r>
            <a:r>
              <a:rPr b="0" lang="en-US" sz="2000" spc="-1" strike="noStrike">
                <a:solidFill>
                  <a:srgbClr val="ff0000"/>
                </a:solidFill>
                <a:latin typeface="Arial"/>
              </a:rPr>
              <a:t>Begs</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ological theories view justice as being rooted in the</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or society as a whole. However these theories would</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condemn violations of human worth amongst a body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Furthermore, because justice establishes rules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interaction, justice inherently entails respect for human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asserting individuals are worthy of a particular treatment.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human worth is a precondition to any system of justice,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wouldn’t attempt to establish rules for a common good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ould treat individuals however we wanted. </a:t>
            </a:r>
            <a:r>
              <a:rPr b="0" lang="en-US" sz="2000" spc="-1" strike="noStrike">
                <a:solidFill>
                  <a:srgbClr val="ff0000"/>
                </a:solidFill>
                <a:latin typeface="Arial"/>
              </a:rPr>
              <a:t>Sufficient</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us, the criterion in today’s round is </a:t>
            </a:r>
            <a:r>
              <a:rPr b="0" lang="en-US" sz="2000" spc="-1" strike="noStrike" u="sng">
                <a:solidFill>
                  <a:srgbClr val="000000"/>
                </a:solidFill>
                <a:uFillTx/>
                <a:latin typeface="Arial"/>
                <a:ea typeface="宋体"/>
              </a:rPr>
              <a:t>maximizing respect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3" name="PlaceHolder 2"/>
          <p:cNvSpPr>
            <a:spLocks noGrp="1"/>
          </p:cNvSpPr>
          <p:nvPr>
            <p:ph/>
          </p:nvPr>
        </p:nvSpPr>
        <p:spPr>
          <a:xfrm>
            <a:off x="914400" y="228240"/>
            <a:ext cx="7772400" cy="62485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u="sng">
                <a:solidFill>
                  <a:srgbClr val="000000"/>
                </a:solidFill>
                <a:uFillTx/>
                <a:latin typeface="Arial"/>
              </a:rPr>
              <a:t>value implicit in the resolution is that of morality</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rue becaus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resolution questions the proper implementation of standards of morality, without citing any specific ends this implementation is supposed to reach.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ught is a normative statement, which according to the American Heritage Dictionary is used to indicate obligation. The existence of any obligations, external to obligations to oneself, is dependent on the existence of a sense of morality. This is true because, in the absence of morality, there would be no motivation, or societal burden on a person to carry out an action. Therefore, any action necessary to, or resulting in the increase of, morality ought to be undertake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Necessary to the concept of morality is a respect for 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notion of morality presupposes that there are morally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le and unacceptable ways to treat human beings. This is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ue because systems of morality center on questions of the moral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ility of actions or concepts with reference to their human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sequences. For instance, the harming of an inanimate object for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asons specifically constrained to the worth of that objec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dependent of any outside effects that harming that object could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ve, would never be considered immoral. Conversely,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rbitrary harming of a human being is considered unjust insid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rameters that it harms a human being, and does not requir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alysis of outside effects to determine its justice. Therefor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tection of human worth is a prerequisite to the existence of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ceptions morality is premised on, making it a prerequisite to</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t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tentions</a:t>
            </a:r>
            <a:endParaRPr b="0" lang="en-US" sz="3600" spc="-1" strike="noStrike">
              <a:solidFill>
                <a:srgbClr val="000000"/>
              </a:solidFill>
              <a:latin typeface="Arial"/>
            </a:endParaRPr>
          </a:p>
        </p:txBody>
      </p:sp>
      <p:pic>
        <p:nvPicPr>
          <p:cNvPr id="187" name="" descr=""/>
          <p:cNvPicPr/>
          <p:nvPr/>
        </p:nvPicPr>
        <p:blipFill>
          <a:blip r:embed="rId1"/>
          <a:stretch/>
        </p:blipFill>
        <p:spPr>
          <a:xfrm>
            <a:off x="1828800" y="2133720"/>
            <a:ext cx="5562720" cy="3962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verview</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contention is debate jargon for points. The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oints explain how the debater achieves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riterion. In LD there are normally 2-3 m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rguments, which have warrants (reasons th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y are true) and impacts (why they mat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304920"/>
            <a:ext cx="7772400" cy="5943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sis statemen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sum up your case position, in that it shoul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big reason you are for or against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at reason, it involves the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firmative’s thesis and sole contention is: The government has a reciprocal obligation to immigrants, since they have tacitly consent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y thesis and sole contention: is that the death penalty respects human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ever changing documents!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NOT be the same tournament to tournament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ut responses to what people have said to you.</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hrough many drafts!</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and verbs are your friends – fragments are not.</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hetoric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tructure makes all judges happy – words like “First, Second, Next, Sub point A, Sub point B etc)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Times New Roman"/>
              </a:rPr>
              <a:t>Each contention should be a separate reason that you are achieving your criterion. </a:t>
            </a:r>
            <a:br>
              <a:rPr sz="1800"/>
            </a:br>
            <a:r>
              <a:rPr b="0" lang="en-US" sz="1800" spc="-1" strike="noStrike">
                <a:solidFill>
                  <a:srgbClr val="ff0000"/>
                </a:solidFill>
                <a:latin typeface="Times New Roman"/>
              </a:rPr>
              <a:t>Offense</a:t>
            </a:r>
            <a:r>
              <a:rPr b="0" lang="en-US" sz="1800" spc="-1" strike="noStrike">
                <a:solidFill>
                  <a:srgbClr val="330033"/>
                </a:solidFill>
                <a:latin typeface="Times New Roman"/>
              </a:rPr>
              <a:t> vs. </a:t>
            </a:r>
            <a:r>
              <a:rPr b="0" lang="en-US" sz="1800" spc="-1" strike="noStrike">
                <a:solidFill>
                  <a:srgbClr val="000099"/>
                </a:solidFill>
                <a:latin typeface="Times New Roman"/>
              </a:rPr>
              <a:t>defense</a:t>
            </a:r>
            <a:br>
              <a:rPr sz="1800"/>
            </a:br>
            <a:r>
              <a:rPr b="0" lang="en-US" sz="1800" spc="-1" strike="noStrike">
                <a:solidFill>
                  <a:srgbClr val="330033"/>
                </a:solidFill>
                <a:latin typeface="Times New Roman"/>
              </a:rPr>
              <a:t>The flow below demonstrates 2 offensive examples and one defense example.</a:t>
            </a:r>
            <a:endParaRPr b="0" lang="en-US" sz="1800" spc="-1" strike="noStrike">
              <a:solidFill>
                <a:srgbClr val="330033"/>
              </a:solidFill>
              <a:latin typeface="Times New Roman"/>
            </a:endParaRPr>
          </a:p>
        </p:txBody>
      </p:sp>
      <p:sp>
        <p:nvSpPr>
          <p:cNvPr id="193" name="PlaceHolder 2"/>
          <p:cNvSpPr>
            <a:spLocks noGrp="1"/>
          </p:cNvSpPr>
          <p:nvPr>
            <p:ph/>
          </p:nvPr>
        </p:nvSpPr>
        <p:spPr>
          <a:xfrm>
            <a:off x="838080" y="1523880"/>
            <a:ext cx="7772400" cy="5562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 death penalty respects human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First, the evidence concerning the deterre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effect of the death penalty is overwhelm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Jacob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Emory Universit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ital punishment has a strong deterrent effec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 fewer murde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Second, protecting guards, other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and innocent killed by murderers parol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Sunstein and Vermeu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ithin-prison homicides of guards and fellow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aroled into the general population, some of them will kill agai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permanent incapacitation of murderers through execution save lives on net.</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Arial"/>
              </a:rPr>
              <a:t>Third, life imprisonment is not suffici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a:rPr>
              <a:t>Sunstein and Vermeu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 refusal to impose capital punishment will condem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numerous innocent people to death.</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n moral grounds, a choice that effectively condemn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arge numbers of people to death is objectiona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宋体"/>
              </a:rPr>
              <a:t>failure to impose capital punishment is a serious moral wro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5" name="PlaceHolder 2"/>
          <p:cNvSpPr>
            <a:spLocks noGrp="1"/>
          </p:cNvSpPr>
          <p:nvPr>
            <p:ph/>
          </p:nvPr>
        </p:nvSpPr>
        <p:spPr>
          <a:xfrm>
            <a:off x="914400" y="304560"/>
            <a:ext cx="7772400" cy="6019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ontention structur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im</a:t>
            </a:r>
            <a:r>
              <a:rPr b="0" lang="en-US" sz="2400" spc="-1" strike="noStrike">
                <a:solidFill>
                  <a:srgbClr val="000000"/>
                </a:solidFill>
                <a:latin typeface="Arial"/>
              </a:rPr>
              <a:t>: The thing you are argu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rrant</a:t>
            </a:r>
            <a:r>
              <a:rPr b="0" lang="en-US" sz="2400" spc="-1" strike="noStrike">
                <a:solidFill>
                  <a:srgbClr val="000000"/>
                </a:solidFill>
                <a:latin typeface="Arial"/>
              </a:rPr>
              <a:t>: The reason your argument is true. This can be your own analysis, but it is almost always more strategic to include a ca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Impact</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he implications of your argument being true on your criterion (why this argument means you win your criterion, or why your opponent can't win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 There can also be impacts external to your criterion, or at least slightly more removed from it. Don't forget, you can also use evidence to support the fact that your impact will happen. Doing so often makes the impact more believ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Toulmin Model of Argumentation</a:t>
            </a:r>
            <a:br>
              <a:rPr sz="3800"/>
            </a:br>
            <a:endParaRPr b="0" lang="en-US" sz="36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warrants in L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alytical</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is about to rain because it is cloud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videntiar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cording to the Washington Pos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mpiricall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happened in Marylan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Nice to have all three!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tudents.ou.edu/S/Charles.R.Swadley-1/argumentation.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allacies</a:t>
            </a:r>
            <a:endParaRPr b="0" lang="en-US" sz="36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ies - an error in reasoni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izkor.org/features/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42 common 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Tu Quoqu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Authorit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mmon Practic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nsequences of a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Emo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ppeal to F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y: Slippery Slop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Known as: The Camel's Nos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ippery Slope is a fallacy in which a person asserts that some event must inevitably follow from another without any argument for the inevitability of the event in question. In most cases, there are a series of steps or gradations between one event and the one in question and no reason is given as to why the intervening steps or gradations will simply be bypassed. This "argument" has the following form: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X has occurred (or will or might occu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event Y will inevitably happen.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ort of "reasoning" is fallacious because there is no reason to believe that one event must inevitably follow from another without an argument for such a claim. This is especially clear in cases in which there is a significant number of steps or gradations between one event and anoth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o stop the tuition increase! The next thing you know, they'll be charging $40,000 a semest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 shouldn't get involved militarily in other countries. Once the government sends in a few troops, it will then send in thousands to di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aglines</a:t>
            </a:r>
            <a:endParaRPr b="0" lang="en-US" sz="36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d should also be said about taglines. You shou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esolutional phrases and your criterion almo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ime. The proper way to construct them is 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Restrictions on the rights of non-citizens are consistent with democratic ideals because they maximize the rights of all citizens.</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5" name="PlaceHolder 2"/>
          <p:cNvSpPr>
            <a:spLocks noGrp="1"/>
          </p:cNvSpPr>
          <p:nvPr>
            <p:ph/>
          </p:nvPr>
        </p:nvSpPr>
        <p:spPr>
          <a:xfrm>
            <a:off x="838080" y="304920"/>
            <a:ext cx="77724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ther thoughts</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for a few independent reasons in each conten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contradiction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examples and Illustrations-use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m relevant to the topi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provide pictures and give us a vision about what we are voting for and agains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urrent day examples if at all possib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304560"/>
            <a:ext cx="7772400" cy="453060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win</a:t>
            </a:r>
            <a:r>
              <a:rPr b="0" lang="en-US" sz="3600" spc="-1" strike="noStrike">
                <a:solidFill>
                  <a:srgbClr val="000099"/>
                </a:solidFill>
                <a:latin typeface="Arial"/>
              </a:rPr>
              <a:t> the </a:t>
            </a:r>
            <a:r>
              <a:rPr b="0" lang="en-US" sz="3600" spc="-1" strike="noStrike" u="sng">
                <a:solidFill>
                  <a:srgbClr val="000099"/>
                </a:solidFill>
                <a:uFillTx/>
                <a:latin typeface="Arial"/>
              </a:rPr>
              <a:t>contentions:</a:t>
            </a:r>
            <a:endParaRPr b="0" lang="en-US" sz="36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  Always link the contentions/ or impact back to the criterion. Don’t go off on tangents within the contention if it has no relation to the criterion. This is true because it’s the standards that allow the judge to weigh the round. How can a judge weigh the contention if that isn’t what you are asking the judge to weig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Impacts, Impacts, Impacts, Impacts. Impacts all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judge to weigh in case specific arguments. There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 way the judge can weigh arguments against ea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 if the judge doesn’t know the impacts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rguments. (Magnitude, longevity, timeframe, potenti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s. guaranteed)</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Provide plenty of cards/evidence. While rhetoric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needed, evidence is essential to any conten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idence provides the warrants/impacts that are oft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verlooked. Furthermore in extending evidence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kes it a lot easier to extend evidence compared wit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hetoric. This is true because evidence usually has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structure compared with your own rhetoric</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Introduction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 </a:t>
            </a:r>
            <a:endParaRPr b="0" lang="en-US" sz="4400" spc="-1" strike="noStrike">
              <a:solidFill>
                <a:srgbClr val="000000"/>
              </a:solidFill>
              <a:latin typeface="Arial"/>
            </a:endParaRPr>
          </a:p>
        </p:txBody>
      </p:sp>
      <p:pic>
        <p:nvPicPr>
          <p:cNvPr id="108" name="" descr=""/>
          <p:cNvPicPr/>
          <p:nvPr/>
        </p:nvPicPr>
        <p:blipFill>
          <a:blip r:embed="rId1"/>
          <a:stretch/>
        </p:blipFill>
        <p:spPr>
          <a:xfrm>
            <a:off x="2895480" y="2286000"/>
            <a:ext cx="3345120" cy="2008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21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AT A MINIMUM</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is/Tag line/Conten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m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thesis and sole </a:t>
            </a:r>
            <a:r>
              <a:rPr b="1" lang="en-US" sz="1400" spc="-1" strike="noStrike" u="sng">
                <a:solidFill>
                  <a:srgbClr val="000000"/>
                </a:solidFill>
                <a:uFillTx/>
                <a:latin typeface="Arial"/>
              </a:rPr>
              <a:t>contention</a:t>
            </a:r>
            <a:r>
              <a:rPr b="0" lang="en-US" sz="1400" spc="-1" strike="noStrike">
                <a:solidFill>
                  <a:srgbClr val="000000"/>
                </a:solidFill>
                <a:latin typeface="Arial"/>
              </a:rPr>
              <a:t>: is that the </a:t>
            </a:r>
            <a:r>
              <a:rPr b="1" lang="en-US" sz="1400" spc="-1" strike="noStrike" u="sng">
                <a:solidFill>
                  <a:srgbClr val="000000"/>
                </a:solidFill>
                <a:uFillTx/>
                <a:latin typeface="Arial"/>
              </a:rPr>
              <a:t>death penalty undermines the protection of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fens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ect for life demands a heavy moral presumption against deliberate killing. This places 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al burden of proof squarely on the negat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Stephen Nathanson explains,</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First, they remind us of moral gravity of acts of killing. Second, they show that</a:t>
            </a:r>
            <a:r>
              <a:rPr b="0" lang="en-US" sz="1400" spc="-1" strike="noStrike">
                <a:solidFill>
                  <a:srgbClr val="000000"/>
                </a:solidFill>
                <a:latin typeface="Arial"/>
              </a:rPr>
              <a:t> </a:t>
            </a:r>
            <a:r>
              <a:rPr b="0" lang="en-US" sz="1400" spc="-1" strike="noStrike" u="sng">
                <a:solidFill>
                  <a:srgbClr val="000000"/>
                </a:solidFill>
                <a:uFillTx/>
                <a:latin typeface="Arial"/>
              </a:rPr>
              <a:t>the initial burden of proof is always on those who favor some form of killing. </a:t>
            </a:r>
            <a:r>
              <a:rPr b="0" lang="en-US" sz="900" spc="-1" strike="noStrike">
                <a:solidFill>
                  <a:srgbClr val="000000"/>
                </a:solidFill>
                <a:latin typeface="Arial"/>
              </a:rPr>
              <a:t>If deliberate killing is generally wrong, then an act of killing will be wrong unless one can show it to be a justifiable exception to the general prohibition. Furthermore,</a:t>
            </a:r>
            <a:r>
              <a:rPr b="0" lang="en-US" sz="1400" spc="-1" strike="noStrike">
                <a:solidFill>
                  <a:srgbClr val="000000"/>
                </a:solidFill>
                <a:latin typeface="Arial"/>
              </a:rPr>
              <a:t> </a:t>
            </a:r>
            <a:r>
              <a:rPr b="0" lang="en-US" sz="1400" spc="-1" strike="noStrike" u="sng">
                <a:solidFill>
                  <a:srgbClr val="000000"/>
                </a:solidFill>
                <a:uFillTx/>
                <a:latin typeface="Arial"/>
              </a:rPr>
              <a:t>anyone seriously committed to respecting life will want to insure that the list of justifications for killing will be as short as possible.</a:t>
            </a:r>
            <a:r>
              <a:rPr b="0" lang="en-US" sz="1400" spc="-1" strike="noStrike">
                <a:solidFill>
                  <a:srgbClr val="000000"/>
                </a:solidFill>
                <a:latin typeface="Arial"/>
              </a:rPr>
              <a:t> </a:t>
            </a:r>
            <a:r>
              <a:rPr b="0" lang="en-US" sz="900" spc="-1" strike="noStrike">
                <a:solidFill>
                  <a:srgbClr val="000000"/>
                </a:solidFill>
                <a:latin typeface="Arial"/>
              </a:rPr>
              <a:t>We show our respect for life by demanding that the taking of life be permitted only when the most powerful reasons have been offered. Casually adding to the list of justifiable exceptions to this principle is inconsistent with the reverence for life which is expressed by opponents and supporters of the death penalty alik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It follows from these points that in the debate about the morality of the death penalty, the moral burden of proof rests on the death penalty supporters.</a:t>
            </a:r>
            <a:r>
              <a:rPr b="0" lang="en-US" sz="1400" spc="-1" strike="noStrike">
                <a:solidFill>
                  <a:srgbClr val="000000"/>
                </a:solidFill>
                <a:latin typeface="Arial"/>
              </a:rPr>
              <a:t> </a:t>
            </a:r>
            <a:r>
              <a:rPr b="0" lang="en-US" sz="900" spc="-1" strike="noStrike">
                <a:solidFill>
                  <a:srgbClr val="000000"/>
                </a:solidFill>
                <a:latin typeface="Arial"/>
              </a:rPr>
              <a:t>Politically, of course, the burden will shirt, depending on the current state of the law and public opinion. The political burden of proof falls on those who are dissatisfied with the status quo, and opponents of the death penalty now bear that burden because there are many states which permit executions and because approval of this policy is widespread.</a:t>
            </a:r>
            <a:r>
              <a:rPr b="0" lang="en-US" sz="1400" spc="-1" strike="noStrike">
                <a:solidFill>
                  <a:srgbClr val="000000"/>
                </a:solidFill>
                <a:latin typeface="Arial"/>
              </a:rPr>
              <a:t> </a:t>
            </a:r>
            <a:r>
              <a:rPr b="0" lang="en-US" sz="1400" spc="-1" strike="noStrike" u="sng">
                <a:solidFill>
                  <a:srgbClr val="000000"/>
                </a:solidFill>
                <a:uFillTx/>
                <a:latin typeface="Arial"/>
              </a:rPr>
              <a:t>Nonetheless, from a moral point of view, the initial burden falls on death penalty supporters.</a:t>
            </a:r>
            <a:r>
              <a:rPr b="0" lang="en-US" sz="1400" spc="-1" strike="noStrike">
                <a:solidFill>
                  <a:srgbClr val="000000"/>
                </a:solidFill>
                <a:latin typeface="Arial"/>
              </a:rPr>
              <a:t> </a:t>
            </a:r>
            <a:r>
              <a:rPr b="0" lang="en-US" sz="1400" spc="-1" strike="noStrike" u="sng">
                <a:solidFill>
                  <a:srgbClr val="000000"/>
                </a:solidFill>
                <a:uFillTx/>
                <a:latin typeface="Arial"/>
              </a:rPr>
              <a:t>It is they who must beat the burden of showing that the use of death as a punishment for murder is morally permissible, that it is not on a par with murder</a:t>
            </a:r>
            <a:r>
              <a:rPr b="0" lang="en-US" sz="1400" spc="-1" strike="noStrike">
                <a:solidFill>
                  <a:srgbClr val="000000"/>
                </a:solidFill>
                <a:latin typeface="Arial"/>
              </a:rPr>
              <a:t>, </a:t>
            </a:r>
            <a:r>
              <a:rPr b="0" lang="en-US" sz="900" spc="-1" strike="noStrike">
                <a:solidFill>
                  <a:srgbClr val="000000"/>
                </a:solidFill>
                <a:latin typeface="Arial"/>
              </a:rPr>
              <a:t>that is merits inclusion on the list of justifiable exceptions to the general prohibition of killing.</a:t>
            </a:r>
            <a:endParaRPr b="0" lang="en-US" sz="9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ephen Nathanson, Professor of Philosophy at Norteasteastern University, 2001</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	</a:t>
            </a:r>
            <a:r>
              <a:rPr b="0" lang="en-US" sz="800" spc="-1" strike="noStrike">
                <a:solidFill>
                  <a:srgbClr val="000000"/>
                </a:solidFill>
                <a:latin typeface="Arial"/>
                <a:ea typeface="宋体"/>
              </a:rPr>
              <a:t>(An Eye for and Eye? Rowman &amp; Littlefield, Lanham, MD. 2nd Ed. P. 9)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7" name="PlaceHolder 2"/>
          <p:cNvSpPr>
            <a:spLocks noGrp="1"/>
          </p:cNvSpPr>
          <p:nvPr>
            <p:ph/>
          </p:nvPr>
        </p:nvSpPr>
        <p:spPr>
          <a:xfrm>
            <a:off x="838080" y="914040"/>
            <a:ext cx="7772400" cy="453060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undermines life in four way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ffensiv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irst, the death penalty undermines the life of the offend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is not justified because the convicted has already been rendered impotent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ncapable of harming others.   The only instance of justified killing would be in self defense,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ch excludes the death penalty by definition as it kills in cold blood with no imminent danger to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on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Llyod Steffen elaborate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Because we in moral community recognize and affirm life itself as a good—even a preeminent good—of life, we understand and accept a moral obligation to pursue, protect, and promote this good. Conversely, we understand that killing deprives persons of this basic good. The moral community thus regards killing as a transgression or moral violation of the most serious kind and does not sanction or justify killing except for specific and morally compelling reasons, such as self-defens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Capital punishment is a killing. It has been subject to intense moral scrutiny because it inflicts a directly willed and intended killing, the very kind of killing that is most suspect from a moral point of view.</a:t>
            </a:r>
            <a:r>
              <a:rPr b="0" lang="en-US" sz="1400" spc="-1" strike="noStrike">
                <a:solidFill>
                  <a:srgbClr val="000000"/>
                </a:solidFill>
                <a:latin typeface="Arial"/>
              </a:rPr>
              <a:t> </a:t>
            </a:r>
            <a:r>
              <a:rPr b="0" lang="en-US" sz="900" spc="-1" strike="noStrike">
                <a:solidFill>
                  <a:srgbClr val="000000"/>
                </a:solidFill>
                <a:latin typeface="Arial"/>
              </a:rPr>
              <a:t>It is a form of killing that springs not from the heat of irrational passion, but from reason and an invocation of justice, yet, ironically, for all its appeal to rationality,</a:t>
            </a:r>
            <a:r>
              <a:rPr b="0" lang="en-US" sz="1400" spc="-1" strike="noStrike">
                <a:solidFill>
                  <a:srgbClr val="000000"/>
                </a:solidFill>
                <a:latin typeface="Arial"/>
              </a:rPr>
              <a:t> </a:t>
            </a:r>
            <a:r>
              <a:rPr b="0" lang="en-US" sz="1400" spc="-1" strike="noStrike" u="sng">
                <a:solidFill>
                  <a:srgbClr val="000000"/>
                </a:solidFill>
                <a:uFillTx/>
                <a:latin typeface="Arial"/>
              </a:rPr>
              <a:t>it makes no obvious appeal to the most ration reason for justifying a killing on could offer—self-defense. And the lack of grounds for appeal to a rational self-defense argument is practical as well as theoretical, since the person facing execution, by virtue of being confined and </a:t>
            </a:r>
            <a:r>
              <a:rPr b="1" lang="en-US" sz="1400" spc="-1" strike="noStrike" u="sng">
                <a:solidFill>
                  <a:srgbClr val="000000"/>
                </a:solidFill>
                <a:uFillTx/>
                <a:latin typeface="Arial"/>
              </a:rPr>
              <a:t>removed from society, has been rendered impotent and incapable of harming others.</a:t>
            </a:r>
            <a:endParaRPr b="0" lang="en-US" sz="1400" spc="-1" strike="noStrike">
              <a:solidFill>
                <a:srgbClr val="000000"/>
              </a:solidFill>
              <a:latin typeface="Arial"/>
            </a:endParaRPr>
          </a:p>
          <a:p>
            <a:pPr marL="291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Lloyd Steffen, Pro. Of Religious Studies &amp; Chaplain, Lehigh University, 1998</a:t>
            </a:r>
            <a:br>
              <a:rPr sz="900"/>
            </a:br>
            <a:r>
              <a:rPr b="0" lang="en-US" sz="900" spc="-1" strike="noStrike">
                <a:solidFill>
                  <a:srgbClr val="000000"/>
                </a:solidFill>
                <a:latin typeface="Arial"/>
              </a:rPr>
              <a:t>(Executing Justice, Cleveland: The Pilgrim Press, p. 9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econd, the death penalty inherently ends the life of the </a:t>
            </a:r>
            <a:r>
              <a:rPr b="1" lang="en-US" sz="1400" spc="-1" strike="noStrike" u="sng">
                <a:solidFill>
                  <a:srgbClr val="000000"/>
                </a:solidFill>
                <a:uFillTx/>
                <a:latin typeface="Arial"/>
              </a:rPr>
              <a:t>wrongfully convict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state executes the innocent, it acts contradictory to the protection of life- it terminat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Amnesty Internation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kelihood that </a:t>
            </a:r>
            <a:r>
              <a:rPr b="1" lang="en-US" sz="1400" spc="-1" strike="noStrike">
                <a:solidFill>
                  <a:srgbClr val="000000"/>
                </a:solidFill>
                <a:latin typeface="Arial"/>
              </a:rPr>
              <a:t>innocent people</a:t>
            </a:r>
            <a:r>
              <a:rPr b="0" lang="en-US" sz="1400" spc="-1" strike="noStrike">
                <a:solidFill>
                  <a:srgbClr val="000000"/>
                </a:solidFill>
                <a:latin typeface="Arial"/>
              </a:rPr>
              <a:t> will be condemned to death and executed is </a:t>
            </a:r>
            <a:r>
              <a:rPr b="1" lang="en-US" sz="1400" spc="-1" strike="noStrike">
                <a:solidFill>
                  <a:srgbClr val="000000"/>
                </a:solidFill>
                <a:latin typeface="Arial"/>
              </a:rPr>
              <a:t>inherent </a:t>
            </a:r>
            <a:r>
              <a:rPr b="0" lang="en-US" sz="1400" spc="-1" strike="noStrike">
                <a:solidFill>
                  <a:srgbClr val="000000"/>
                </a:solidFill>
                <a:latin typeface="Arial"/>
              </a:rPr>
              <a:t>in al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isdictions which resort to capital punishment. Few mistakes made by government officials ca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 the horror of executing an innocent person. But </a:t>
            </a:r>
            <a:r>
              <a:rPr b="1" lang="en-US" sz="1400" spc="-1" strike="noStrike">
                <a:solidFill>
                  <a:srgbClr val="000000"/>
                </a:solidFill>
                <a:latin typeface="Arial"/>
              </a:rPr>
              <a:t>all systems of justice </a:t>
            </a:r>
            <a:r>
              <a:rPr b="0" lang="en-US" sz="1400" spc="-1" strike="noStrike">
                <a:solidFill>
                  <a:srgbClr val="000000"/>
                </a:solidFill>
                <a:latin typeface="Arial"/>
              </a:rPr>
              <a:t>are </a:t>
            </a:r>
            <a:r>
              <a:rPr b="1" lang="en-US" sz="1400" spc="-1" strike="noStrike">
                <a:solidFill>
                  <a:srgbClr val="000000"/>
                </a:solidFill>
                <a:latin typeface="Arial"/>
              </a:rPr>
              <a:t>fallible</a:t>
            </a:r>
            <a:r>
              <a:rPr b="0" lang="en-US" sz="1400" spc="-1" strike="noStrike">
                <a:solidFill>
                  <a:srgbClr val="000000"/>
                </a:solidFill>
                <a:latin typeface="Arial"/>
              </a:rPr>
              <a:t>; ev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ensive legal safeguard within the criminal justice system of the United States of Americ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A) have manifestly failed to prevent wrongful death sentences in many cases. Furthermor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of these basic safeguards have been seriously undermined in recent years, increasing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lethal and irreversible error.</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nesty International, 12 November 1998,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eb.amnesty.org/library/index/ENGAMR51069199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fontScale="86000"/>
          </a:bodyPr>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rd, the death penalty diverts resources that could be utilized more effectively to protect life.</a:t>
            </a: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l S. Steiker develops, </a:t>
            </a:r>
            <a:endParaRPr b="0" lang="en-US" sz="14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always alternative means to prevent such future harms, including policing initiativ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other direct community interventions in the short term, and funding for social programs such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s </a:t>
            </a:r>
            <a:r>
              <a:rPr b="1" lang="en-US" sz="1200" spc="-1" strike="noStrike" u="sng">
                <a:solidFill>
                  <a:srgbClr val="000000"/>
                </a:solidFill>
                <a:uFillTx/>
                <a:latin typeface="Arial"/>
              </a:rPr>
              <a:t>education</a:t>
            </a:r>
            <a:r>
              <a:rPr b="0" lang="en-US" sz="1200" spc="-1" strike="noStrike" u="sng">
                <a:solidFill>
                  <a:srgbClr val="000000"/>
                </a:solidFill>
                <a:uFillTx/>
                <a:latin typeface="Arial"/>
              </a:rPr>
              <a:t>, </a:t>
            </a:r>
            <a:r>
              <a:rPr b="1" lang="en-US" sz="1200" spc="-1" strike="noStrike" u="sng">
                <a:solidFill>
                  <a:srgbClr val="000000"/>
                </a:solidFill>
                <a:uFillTx/>
                <a:latin typeface="Arial"/>
              </a:rPr>
              <a:t>health care</a:t>
            </a:r>
            <a:r>
              <a:rPr b="0" lang="en-US" sz="1200" spc="-1" strike="noStrike" u="sng">
                <a:solidFill>
                  <a:srgbClr val="000000"/>
                </a:solidFill>
                <a:uFillTx/>
                <a:latin typeface="Arial"/>
              </a:rPr>
              <a:t>, </a:t>
            </a:r>
            <a:r>
              <a:rPr b="1" lang="en-US" sz="1200" spc="-1" strike="noStrike" u="sng">
                <a:solidFill>
                  <a:srgbClr val="000000"/>
                </a:solidFill>
                <a:uFillTx/>
                <a:latin typeface="Arial"/>
              </a:rPr>
              <a:t>mental health services</a:t>
            </a:r>
            <a:r>
              <a:rPr b="0" lang="en-US" sz="1200" spc="-1" strike="noStrike" u="sng">
                <a:solidFill>
                  <a:srgbClr val="000000"/>
                </a:solidFill>
                <a:uFillTx/>
                <a:latin typeface="Arial"/>
              </a:rPr>
              <a:t>, and </a:t>
            </a:r>
            <a:r>
              <a:rPr b="1" lang="en-US" sz="1200" spc="-1" strike="noStrike" u="sng">
                <a:solidFill>
                  <a:srgbClr val="000000"/>
                </a:solidFill>
                <a:uFillTx/>
                <a:latin typeface="Arial"/>
              </a:rPr>
              <a:t>drug treatment</a:t>
            </a:r>
            <a:r>
              <a:rPr b="0" lang="en-US" sz="1200" spc="-1" strike="noStrike" u="sng">
                <a:solidFill>
                  <a:srgbClr val="000000"/>
                </a:solidFill>
                <a:uFillTx/>
                <a:latin typeface="Arial"/>
              </a:rPr>
              <a:t> in the medium and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ong term.</a:t>
            </a:r>
            <a:r>
              <a:rPr b="0" lang="en-US" sz="1200" spc="-1" strike="noStrike">
                <a:solidFill>
                  <a:srgbClr val="000000"/>
                </a:solidFill>
                <a:latin typeface="Arial"/>
              </a:rPr>
              <a:t> </a:t>
            </a:r>
            <a:r>
              <a:rPr b="0" lang="en-US" sz="800" spc="-1" strike="noStrike">
                <a:solidFill>
                  <a:srgbClr val="000000"/>
                </a:solidFill>
                <a:latin typeface="Arial"/>
              </a:rPr>
              <a:t>… the threshold deontologist can easily respond that</a:t>
            </a:r>
            <a:r>
              <a:rPr b="0" lang="en-US" sz="1200" spc="-1" strike="noStrike">
                <a:solidFill>
                  <a:srgbClr val="000000"/>
                </a:solidFill>
                <a:latin typeface="Arial"/>
              </a:rPr>
              <a:t> </a:t>
            </a:r>
            <a:r>
              <a:rPr b="0" lang="en-US" sz="1200" spc="-1" strike="noStrike" u="sng">
                <a:solidFill>
                  <a:srgbClr val="000000"/>
                </a:solidFill>
                <a:uFillTx/>
                <a:latin typeface="Arial"/>
              </a:rPr>
              <a:t>there will always remain the choi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tween further alternative preventive strategies and capital punishment. We are never likely to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hieve a world in which we have reached optimal spending on nonlethal preventive strategi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have nothing left to do but adopt capital punishment. Nor is it likely, in the event that we ever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d achieve such a utopian world, that capital punishment could generate, even remotely,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ame marginal deterrent effect, in light of the fact that the murders and murderers in such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ld would be of a far different genesis than those in the world in which we currently liv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n a grander moral scale, preventing murders is only one way in which the state protects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ives of its citizens. It does so also through public health policies, environmental protection,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kplace safety regulation, and the like. If the dollars spent on an execution that would preven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ighteen murders could be spent to prevent an equal number of people from dying in workpla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cidents or from AIDS without violating any categorical moral prohibition, why should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reshold deontologist agree that any catastrophic threshold permitting violation of such a moral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hibition has been met? Given the costliness of the administration of capital punishment, i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ems unlikely that a deontologist would ever properly conclude that the marginal deterrence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forded by executions so far outweighed other possible savings of lives </a:t>
            </a:r>
            <a:r>
              <a:rPr b="0" lang="en-US" sz="800" spc="-1" strike="noStrike">
                <a:solidFill>
                  <a:srgbClr val="000000"/>
                </a:solidFill>
                <a:latin typeface="Arial"/>
              </a:rPr>
              <a:t>with the same dollars s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to cross some catastrophic threshold.</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many plausible alternative strategies to reducing homicide rates that could feasibly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 adopted, the best proof being that some of them have been adopted in some states.</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over, even if these policies are less politically popular than capital punishment, it is hard t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 how that affects the moral duties of those who believe that capital punishment is </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gorically wrong.</a:t>
            </a:r>
            <a:r>
              <a:rPr b="0" lang="en-US" sz="1200" spc="-1" strike="noStrike">
                <a:solidFill>
                  <a:srgbClr val="000000"/>
                </a:solidFill>
                <a:latin typeface="Arial"/>
              </a:rPr>
              <a:t> </a:t>
            </a:r>
            <a:r>
              <a:rPr b="0" lang="en-US" sz="1200" spc="-1" strike="noStrike" u="sng">
                <a:solidFill>
                  <a:srgbClr val="000000"/>
                </a:solidFill>
                <a:uFillTx/>
                <a:latin typeface="Arial"/>
              </a:rPr>
              <a:t>Surely, their </a:t>
            </a:r>
            <a:r>
              <a:rPr b="1" lang="en-US" sz="1200" spc="-1" strike="noStrike" u="sng">
                <a:solidFill>
                  <a:srgbClr val="000000"/>
                </a:solidFill>
                <a:uFillTx/>
                <a:latin typeface="Arial"/>
              </a:rPr>
              <a:t>moral obligation</a:t>
            </a:r>
            <a:r>
              <a:rPr b="0" lang="en-US" sz="1200" spc="-1" strike="noStrike" u="sng">
                <a:solidFill>
                  <a:srgbClr val="000000"/>
                </a:solidFill>
                <a:uFillTx/>
                <a:latin typeface="Arial"/>
              </a:rPr>
              <a:t> is to work toward feasible alternatives</a:t>
            </a:r>
            <a:r>
              <a:rPr b="0" lang="en-US" sz="1200" spc="-1" strike="noStrike">
                <a:solidFill>
                  <a:srgbClr val="000000"/>
                </a:solidFill>
                <a:latin typeface="Arial"/>
              </a:rPr>
              <a:t>.</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ol S. Steiker; Stanford Law Review, Vol. 58, 2005. “No, Capital Punishment Is Not Morally Required: Deterrence, Deontology, and the Death Penalt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295280"/>
            <a:ext cx="7772400" cy="4530960"/>
          </a:xfrm>
          <a:prstGeom prst="rect">
            <a:avLst/>
          </a:prstGeom>
          <a:noFill/>
          <a:ln w="0">
            <a:noFill/>
          </a:ln>
        </p:spPr>
        <p:txBody>
          <a:bodyPr lIns="90000" rIns="90000" tIns="46800" bIns="46800" anchor="t">
            <a:normAutofit fontScale="87000"/>
          </a:bodyPr>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ourth, the death penalty acts as a signal to society that it permissible to kill.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nd the state will use the power of the death penalty in unjus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kill in the name of justice.</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loyd Steffen elaborates,</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t>
            </a:r>
            <a:r>
              <a:rPr b="0" lang="en-US" sz="900" spc="-1" strike="noStrike">
                <a:solidFill>
                  <a:srgbClr val="000000"/>
                </a:solidFill>
                <a:latin typeface="Arial"/>
              </a:rPr>
              <a:t>Plus and</a:t>
            </a:r>
            <a:r>
              <a:rPr b="0" lang="en-US" sz="1400" spc="-1" strike="noStrike">
                <a:solidFill>
                  <a:srgbClr val="000000"/>
                </a:solidFill>
                <a:latin typeface="Arial"/>
              </a:rPr>
              <a:t> the state will use power of the death penalty in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ways to kill in the name of justice. </a:t>
            </a:r>
            <a:endParaRPr b="0" lang="en-US" sz="14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question we must ask, beyond the moral analysis considered up to this point, is what the death penalty actually means as a symbol. Is it an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ffective symbol for justice, or does it draw its power as a symbol from another symbolic locus another center of meaning and value?</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mbolic appeal that capital punishment makes in claim to be just is simple enough to understand, for if justice means returning the offenders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ir deserts, then the death penalty is the returns desert of an extreme punishment for an extreme crime.  The statement “a life for a </a:t>
            </a:r>
            <a:endParaRPr b="0" lang="en-US" sz="9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 makes a problem arise.</a:t>
            </a:r>
            <a:r>
              <a:rPr b="0" lang="en-US" sz="1400" spc="-1" strike="noStrike">
                <a:solidFill>
                  <a:srgbClr val="000000"/>
                </a:solidFill>
                <a:latin typeface="Arial"/>
              </a:rPr>
              <a:t> The death penalty is an instrument of state policy and action, and i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bol power gets deeper than association with retributive justice; in fact since I can be used a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strument of state repression, its deeper symbolic value must be said to lie in the value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any requirements of justice. The heart of the matter at the level of symbol is that the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th penalty represents a rare instance of legitimated killing—like just war, tyrannicide, and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defense The death penalty as a symbol transforms moral meaning and authorizes suc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lling, and does so in the in the face of our ordinary moral propitiations against such killing;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inarily moral prohibited killings of members of the moral community become permitted ac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uthorization may be sought after in the name of justice, but justice may be effected by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means; and the power to execute, once claimed, can be—and has been—used to effec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s that have nothing to do with serving justice.</a:t>
            </a:r>
            <a:endParaRPr b="0" lang="en-US" sz="14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loyd Steffen, Prof. Of religious &amp; chaplain, Lehigh University. 1998, page 143-4</a:t>
            </a:r>
            <a:endParaRPr b="0" lang="en-US" sz="8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Executing justice, Cleveland: the pilgrim press, p143-4)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clusion</a:t>
            </a:r>
            <a:endParaRPr b="0" lang="en-US" sz="3600" spc="-1" strike="noStrike">
              <a:solidFill>
                <a:srgbClr val="000000"/>
              </a:solidFill>
              <a:latin typeface="Arial"/>
            </a:endParaRPr>
          </a:p>
        </p:txBody>
      </p:sp>
      <p:pic>
        <p:nvPicPr>
          <p:cNvPr id="225" name="" descr=""/>
          <p:cNvPicPr/>
          <p:nvPr/>
        </p:nvPicPr>
        <p:blipFill>
          <a:blip r:embed="rId1"/>
          <a:stretch/>
        </p:blipFill>
        <p:spPr>
          <a:xfrm>
            <a:off x="2819520" y="2209680"/>
            <a:ext cx="3581280" cy="3505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7" name="PlaceHolder 2"/>
          <p:cNvSpPr>
            <a:spLocks noGrp="1"/>
          </p:cNvSpPr>
          <p:nvPr>
            <p:ph/>
          </p:nvPr>
        </p:nvSpPr>
        <p:spPr>
          <a:xfrm>
            <a:off x="914400" y="228240"/>
            <a:ext cx="7772400" cy="5715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onclusio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sually unnecessary, but if you feel you can su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your case is a rhetorically compelling way, go for 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don't worry about having a conclusion. Yo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won't have time for one anywa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15-20 secon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line should be remembered (memorize if at a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宋体"/>
              </a:rPr>
              <a:t> </a:t>
            </a:r>
            <a:r>
              <a:rPr b="0" lang="en-US" sz="4200" spc="-1" strike="noStrike">
                <a:solidFill>
                  <a:srgbClr val="330033"/>
                </a:solidFill>
                <a:latin typeface="Times New Roman"/>
                <a:ea typeface="宋体"/>
              </a:rPr>
              <a:t>THE CASE! </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600200"/>
            <a:ext cx="7772400" cy="50292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ffirm/I negat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resolution word for word</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key term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ptional)</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mework – observations and analysi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valu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criterion</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is/Tag line/Contention(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nclu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ther Thoughts</a:t>
            </a:r>
            <a:endParaRPr b="0" lang="en-US" sz="36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tandard argument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hat are evaluated before the standard</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74680"/>
            <a:ext cx="7696080" cy="582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verview</a:t>
            </a:r>
            <a:br>
              <a:rPr sz="3600"/>
            </a:br>
            <a:br>
              <a:rPr sz="2500"/>
            </a:br>
            <a:br>
              <a:rPr sz="2500"/>
            </a:br>
            <a:r>
              <a:rPr b="0" lang="en-US" sz="2500" spc="-1" strike="noStrike">
                <a:solidFill>
                  <a:srgbClr val="330033"/>
                </a:solidFill>
                <a:latin typeface="Times New Roman"/>
              </a:rPr>
              <a:t>The introduction is designed to grab the judge's attention and lend emotional support to the position you are about to take. It can be a </a:t>
            </a:r>
            <a:r>
              <a:rPr b="0" lang="en-US" sz="2500" spc="-1" strike="noStrike" u="sng">
                <a:solidFill>
                  <a:srgbClr val="330033"/>
                </a:solidFill>
                <a:uFillTx/>
                <a:latin typeface="Times New Roman"/>
              </a:rPr>
              <a:t>quote</a:t>
            </a:r>
            <a:r>
              <a:rPr b="0" lang="en-US" sz="2500" spc="-1" strike="noStrike">
                <a:solidFill>
                  <a:srgbClr val="330033"/>
                </a:solidFill>
                <a:latin typeface="Times New Roman"/>
              </a:rPr>
              <a:t> or descriptive paragraph, analogy, or just about anything else. It should lead directly to your side of the resolution, one of your points, or your value. It is best to end the introduction with the resolution, stating something like: For this reason, I stand firmly in support of today's resolution, that... </a:t>
            </a:r>
            <a:br>
              <a:rPr sz="2500"/>
            </a:br>
            <a:endParaRPr b="0" lang="en-US" sz="25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fontScale="68000"/>
          </a:bodyPr>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ved: The use of the state’s power of Eminent Domain to promote private enterprise is </a:t>
            </a:r>
            <a:endParaRPr b="0" lang="en-US" sz="1400" spc="-1" strike="noStrike">
              <a:solidFill>
                <a:srgbClr val="000000"/>
              </a:solidFill>
              <a:latin typeface="Arial"/>
            </a:endParaRPr>
          </a:p>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a:t>
            </a:r>
            <a:endParaRPr b="0" lang="en-US" sz="14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e negative case I am going to offer two reasons to reject th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 the resolution is a normative claim that declares a specific st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as unjust. Implied within any normative claim is a judgment as to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n agent ought to act. </a:t>
            </a:r>
            <a:r>
              <a:rPr b="0" lang="en-US" sz="1600" spc="-1" strike="noStrike" u="sng">
                <a:solidFill>
                  <a:srgbClr val="000000"/>
                </a:solidFill>
                <a:uFillTx/>
                <a:latin typeface="Arial"/>
              </a:rPr>
              <a:t>Therefore, any normative assessment of a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ction presupposes agency on the part of the actor</a:t>
            </a:r>
            <a:r>
              <a:rPr b="0" lang="en-US" sz="1600" spc="-1" strike="noStrike">
                <a:solidFill>
                  <a:srgbClr val="000000"/>
                </a:solidFill>
                <a:latin typeface="Arial"/>
              </a:rPr>
              <a:t>. You would never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the act of hurricane as unjust, because the hurricane can't make a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 to change its action. The only way in which the state could b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ed an autonomous agent, is if the agency of it citizens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ed into policy making. Yet, the bureaucratic process of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lomerating mass opinion into a single government policy, ensures tha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y of a state's citizens is not reflected at the policy level. As such,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 state cannot be considered an agent, and therefore state action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 labeled unjus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t>
            </a:r>
            <a:r>
              <a:rPr b="0" lang="en-US" sz="1600" spc="-1" strike="noStrike" u="sng">
                <a:solidFill>
                  <a:srgbClr val="000000"/>
                </a:solidFill>
                <a:uFillTx/>
                <a:latin typeface="Arial"/>
              </a:rPr>
              <a:t>it is impossible for the state's use of their power of emin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omain to promote private enterprise.</a:t>
            </a:r>
            <a:r>
              <a:rPr b="0" lang="en-US" sz="1600" spc="-1" strike="noStrike">
                <a:solidFill>
                  <a:srgbClr val="000000"/>
                </a:solidFill>
                <a:latin typeface="Arial"/>
              </a:rPr>
              <a:t> Private enterprise specifically refer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conomic activity which is “private,” or independent of the governm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When the government subsidizes an industry by giving it money, it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universally understood as a step away from private enterprise and step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owards a nationalized economy.</a:t>
            </a:r>
            <a:r>
              <a:rPr b="0" lang="en-US" sz="1600" spc="-1" strike="noStrike">
                <a:solidFill>
                  <a:srgbClr val="000000"/>
                </a:solidFill>
                <a:latin typeface="Arial"/>
              </a:rPr>
              <a:t> The use of eminent domain to giv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to corporations is in no way different; the government is using it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s to intervene in the economy and therefore is not promoting priv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As such, the resolution cannot be affirmed because one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an action unjust, if that action can logically never happe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o overviews demonstrate unique assumptions of the resolution and </a:t>
            </a:r>
            <a:endParaRPr b="0" lang="en-US" sz="1600" spc="-1" strike="noStrike">
              <a:solidFill>
                <a:srgbClr val="000000"/>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s them fal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de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hing that must be done to w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ferences</a:t>
            </a:r>
            <a:br>
              <a:rPr sz="3600"/>
            </a:br>
            <a:endParaRPr b="0" lang="en-US" sz="36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Construct a Lincoln Douglas Debate Cas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wikihow.com/Construct-a-Lincoln-Douglas-Debate-Ca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LD Debate [PD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Cherian Koshy and Dr. Seth Halvors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flonline.org/uploads/CoachingResources/IntroductiontoLDDebateOnlineText.pdf</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c  UI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162560" cy="472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Introductions</a:t>
            </a:r>
            <a:br>
              <a:rPr sz="3600"/>
            </a:br>
            <a:br>
              <a:rPr sz="2900"/>
            </a:br>
            <a:br>
              <a:rPr sz="2900"/>
            </a:br>
            <a:br>
              <a:rPr sz="2900"/>
            </a:b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State the resolution as it is worded </a:t>
            </a: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Do not add “not” if you are negating</a:t>
            </a:r>
            <a:br>
              <a:rPr sz="2900"/>
            </a:br>
            <a:endParaRPr b="0" lang="en-US" sz="29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
          <p:cNvSpPr/>
          <p:nvPr/>
        </p:nvSpPr>
        <p:spPr>
          <a:xfrm>
            <a:off x="838080" y="379800"/>
            <a:ext cx="6629400" cy="329148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ffirm/I nega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State the resolution word for word</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18:09:13Z</dcterms:created>
  <dc:creator>Tim Cook</dc:creator>
  <dc:description/>
  <dc:language>en-US</dc:language>
  <cp:lastModifiedBy>Tim Cook</cp:lastModifiedBy>
  <dcterms:modified xsi:type="dcterms:W3CDTF">2008-07-04T02:06:31Z</dcterms:modified>
  <cp:revision>64</cp:revision>
  <dc:subject/>
  <dc:title>Slide 1</dc:title>
</cp:coreProperties>
</file>