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81D-78F3-43CF-9ED5-3138DFD1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59E-38B7-4645-A809-EAE8844A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685-9362-4B7E-83B1-3D34C99C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5FB-923F-45AB-AF58-C7914B55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03C3-54CD-44C5-B75A-43E316B4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1D65-DB3C-4E6C-92AF-8087EE6E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E5A-C9AB-41A2-8DA5-ED3E18A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A71-28C4-40F4-8D5A-413AD3AD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9002-7B5D-4EED-A3A5-DD2FB452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41D7-9F3E-4701-9CDB-AC8E60CD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5645-0471-4305-8F07-5915CA5F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EAB-1DE7-450B-92C4-5FF6312A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CA9A-3E21-48E3-9BB5-E25190CA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5BFF-81F3-4680-9479-E85A4A4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5BFE-F087-4150-983E-A8F6666A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446B-369B-425E-8CB1-E8122148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0603-4388-4E04-92BE-687DBEB6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297-C225-4730-96F1-D1BD0E0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CA6-A31A-48A0-8748-C8E35364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60E-575F-4E2D-858B-929FF4D5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8FB-58BF-4DE6-8AF0-9215604B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C8E-A2D7-4A88-AEC4-93D76E6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2A8-68F4-46BF-B8E2-32BE584F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59E-A022-42C6-997D-55EA6D8A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BA59-5D45-43DD-8A9A-AE71677FB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E947-191B-4789-A087-9745313C5D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incoln Douglas Deb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locking the Doors to Persua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ample CRITERI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ke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sseau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bb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wls’ Distributive Jus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ntham’s Principle of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ll’s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nt’s Categorical Imper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low’s Theory of Self-Actual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e main ways to win an LD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supported by your case,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pported by your opponent's case, 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peri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your opponent’s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tter supports your value than your opponent’s case supports thei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case better support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OTH valu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n your opponent’s case supports either 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und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C (affirmative constructive) = 6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g. cx (cross examine) of Aff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C (negative constructiv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R) = 7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ff. cx of Neg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R (affirmative rebuttal) =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R (negative rebuttal) = 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AR (affirmative rebuttal)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(Each side also has 4 total minutes of Prep Tim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trod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ing quotation(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stification for your s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the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 all Ter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iew your Contentions (main clai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entions” are your main points.  Your main claim is called your “Tag Line” (statement of your opi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Taking the life of even one individual undermines the basic right to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ife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ONE: Taking a life is immor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TWO: It is immoral to assume any life is more valuable than anothe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Killing even one person will not result in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reatest goo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Violating life also violates other basic rights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ffirm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eg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TTACK AFFIRMA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tta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ir Value &amp;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how these uphold the Resol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thei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ch Con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evidence o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entral Ideas of their C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items they should have addressed, but 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he Negative tries to cast doubt upon the Aff position (and vice vers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NOT make statements in cx- as questions and gain answers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allow your opponent to evade answering your ques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ry to boil your opponent’s case down to a few simple poi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rude during cx- always thank your opponent for the answ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clarification questions for information you may have missed on your Flow She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the Answerer, answer as clearly and simply as 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nfidence in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, don’t get ang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out to the JUDGE during cx, do not look at your oppon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based in a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flict (ex. Whether the Individual is more valuable than the Society, or whether something is Jus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is determined by the National Forensic League (NF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will change every 2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our:  Rebutta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 the same rules outlined for the last half of the 1N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NEW POINTS may be brought up in these spee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-up evidence is useful, but not necessary.  LD should not be an evidence war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last 2AC should be used to CRYSTALLIZE the round (and state why you have won the roun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god or goddess in the 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must imp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r opponent does not exist- they are merely a dissenting voice to the truth you sp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vince yourself you ar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igh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order to win the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to the type of judge you think you have (experienced or not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smoothly, without use of “uh…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y your tone, rate, volume and inflection for emph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 your case in front of a mirr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tilize controlled gestures and eye contact with you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yourself time to breat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 and conversational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are 2 debaters in the rou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AFFIRM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pholds the Resolution the way it is st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rgues against the Re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entral theme of LD Debate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y close attention to the definitions you use- it is best to use the first one out of the dictionary, since this is the most common, and the one your judge will be most familiar with (and will agree wit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ok at the Abe &amp; Steve debate: the whole point of that debate was whether slaves were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DEFIN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 human beings or n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re the key words that need to be defined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evaluative term)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object of evaluation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be anything, as long as they are supported (Criter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ble to explain why it is important off the top of your head without quoting from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in your Val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ample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tilitarian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uality of 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vil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lobal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uman Dign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ilosophies and/or contracts that will uphold the Value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ory to help you prove your Value is more persua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18:26Z</dcterms:created>
  <dc:creator>Frisco ISD</dc:creator>
  <dc:description/>
  <dc:language>en-US</dc:language>
  <cp:lastModifiedBy>Frisco ISD</cp:lastModifiedBy>
  <dcterms:modified xsi:type="dcterms:W3CDTF">2008-09-11T15:44:45Z</dcterms:modified>
  <cp:revision>18</cp:revision>
  <dc:subject/>
  <dc:title>Lincoln Douglas Debate</dc:title>
</cp:coreProperties>
</file>