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11A-27A2-4610-ACAF-0F4813B3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11D-56D0-4CD2-A4F4-E5C5E8B2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905-404B-4CF3-8B4E-1DB1CE68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102-8A45-46D0-AD8B-3C4B3BB6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204B-FFB2-4B28-8815-39180744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0488-FD8A-46E6-B89E-B144B4BE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0C52-4EBE-4049-A94A-D5A3AE21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E47C-288F-486A-BD9E-9E7C13BC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988E-3CBE-441E-BBA2-35F81541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31DC-B7A5-4D14-AB5F-D1DA1309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3ACC-04A8-4309-B68A-C2BAA4AD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FDF-DAA0-4B6B-9524-B5934E6F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1C1E-D952-4C99-B7F8-A57F514E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2BF0-054F-487F-87BB-817A405E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8F81-A1A2-4409-A1CA-EA222A19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2468-57DE-48D5-9EF7-C3A60346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F9BE-FC25-4D26-A976-EB2B91CD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0D8-3D57-40B8-94BF-D200EF44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7BE-8374-4E0B-ABAC-98C9B579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43B-F9D4-42A9-A613-AD2D0E71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93E-A7C8-451C-A7F6-DA6068FA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DFC-48B2-439F-8AF5-CDE78238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A63-6E0E-4585-BE88-FA81D004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352-75EE-4EBA-91A2-CED7417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063-B2ED-4218-8D5C-0BB37717F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3716-6DC8-4E11-BC81-90C64682E3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incoln Douglas Deb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locking the Doors to Persua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ample CRITERI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ke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sseau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bb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wls’ Distributive Jus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ntham’s Principle of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ll’s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nt’s Categorical Imper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low’s Theory of Self-Actual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e main ways to win an LD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supported by your case,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pported by your opponent's case, 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peri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your opponent’s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tter supports your value than your opponent’s case supports thei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case better support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OTH valu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n your opponent’s case supports either 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und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C (affirmative constructive) = 6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g. cx (cross examine) of Aff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C (negative constructiv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R) = 7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ff. cx of Neg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R (affirmative rebuttal) =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R (negative rebuttal) = 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AR (affirmative rebuttal)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(Each side also has 4 total minutes of Prep Tim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trod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ing quotation(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stification for your s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the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 all Ter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iew your Contentions (main clai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entions” are your main points.  Your main claim is called your “Tag Line” (statement of your opi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Taking the life of even one individual undermines the basic right to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ife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ONE: Taking a life is immor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TWO: It is immoral to assume any life is more valuable than anothe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Killing even one person will not result in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reatest goo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Violating life also violates other basic rights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ffirm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eg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TTACK AFFIRMA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tta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ir Value &amp;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how these uphold the Resol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thei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ch Con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evidence o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entral Ideas of their C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items they should have addressed, but 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he Negative tries to cast doubt upon the Aff position (and vice vers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NOT make statements in cx- as questions and gain answers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allow your opponent to evade answering your ques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ry to boil your opponent’s case down to a few simple poi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rude during cx- always thank your opponent for the answ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clarification questions for information you may have missed on your Flow She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the Answerer, answer as clearly and simply as 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nfidence in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, don’t get ang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out to the JUDGE during cx, do not look at your oppon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based in a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flict (ex. Whether the Individual is more valuable than the Society, or whether something is Jus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is determined by the National Forensic League (NF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will change every 2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our:  Rebutta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 the same rules outlined for the last half of the 1N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NEW POINTS may be brought up in these spee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-up evidence is useful, but not necessary.  LD should not be an evidence war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last 2AC should be used to CRYSTALLIZE the round (and state why you have won the roun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god or goddess in the 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must imp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r opponent does not exist- they are merely a dissenting voice to the truth you sp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vince yourself you ar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igh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order to win the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to the type of judge you think you have (experienced or not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smoothly, without use of “uh…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y your tone, rate, volume and inflection for emph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 your case in front of a mirr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tilize controlled gestures and eye contact with you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yourself time to breat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 and conversational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are 2 debaters in the rou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AFFIRM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pholds the Resolution the way it is st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rgues against the Re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entral theme of LD Debate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y close attention to the definitions you use- it is best to use the first one out of the dictionary, since this is the most common, and the one your judge will be most familiar with (and will agree wit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ok at the Abe &amp; Steve debate: the whole point of that debate was whether slaves were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DEFIN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 human beings or n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re the key words that need to be defined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evaluative term)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object of evaluation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be anything, as long as they are supported (Criter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ble to explain why it is important off the top of your head without quoting from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in your Val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ample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tilitarian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uality of 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vil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lobal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uman Dign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ilosophies and/or contracts that will uphold the Value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ory to help you prove your Value is more persua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18:26Z</dcterms:created>
  <dc:creator>Frisco ISD</dc:creator>
  <dc:description/>
  <dc:language>en-US</dc:language>
  <cp:lastModifiedBy>Frisco ISD</cp:lastModifiedBy>
  <dcterms:modified xsi:type="dcterms:W3CDTF">2008-09-11T15:44:45Z</dcterms:modified>
  <cp:revision>18</cp:revision>
  <dc:subject/>
  <dc:title>Lincoln Douglas Debate</dc:title>
</cp:coreProperties>
</file>