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E37D-75AD-4392-AC38-64BCA8520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F3AF-B946-4DDA-9D03-30DCA8C5A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30F4-8BC8-44D6-9FD2-FDB161A9D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121E-C006-40E0-A7C2-8764398C5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4648C-FF09-4B83-851C-E8C694739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F13F0-6B82-4F38-9222-770E296C1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15D87-FFD0-47C9-8F24-7583C7FA1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7297B-D4A0-4FD2-AC36-271330170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4B1B2-78E3-4A97-A4A7-7A937EC73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952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4BE85-8BAA-4026-9029-5F0913E39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C02F2-4DF5-480D-9275-1CCCA571A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F102-B0EA-4619-BA4F-91284BDE6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83188-CCAF-4999-8ACC-BD25C8781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555F4-2C1F-4A77-AF8E-378ACE9C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6F9CC-2698-4B74-AA15-C08BDF141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EC9EA-6EFD-4DC1-A893-8764FA01E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4EB16-5089-412D-A101-E80A11C99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82DE-EE38-42F4-B3D2-EE694A769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8BEE-9FF8-4DEF-ACD7-BFD07AD8E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CD2D-8011-4F57-B17C-8DC5C258E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952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B11A-2175-4818-9232-E05868B4A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D783-3E1F-42EE-88B6-7287BEFD0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C2BF-80C7-4D6C-9374-368589675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7A21-627D-471D-BDEA-89FBD5476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3F6F2-480D-4E6C-B232-57D9377889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86458-22B1-4168-85FF-519AB98CCE67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80720" y="1828440"/>
            <a:ext cx="708516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Lincoln Douglas Debat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2860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nlocking the Doors to Persuas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t One:  An Over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Sample CRITERIA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ocke’s Social Contrac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ousseau’s Social Contrac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obb’s Social Contrac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awls’ Distributive Justi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entham’s Principle of Utilitarianis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ill’s Utilitarianis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Kant’s Categorical Imperitiv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slow’s Theory of Self-Actualiz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t One:  An Over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ree main ways to win an LD roun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ove that your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value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is supported by your case,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supported by your opponent's case, and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superior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to your opponent’s valu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ove that your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case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better supports your value than your opponent’s case supports thei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ove that your case better supports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BOTH values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than your opponent’s case supports either on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t One:  An Over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952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Round Structur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1 AC (affirmative constructive) = 6 mi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g. cx (cross examine) of Aff = 3 mi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1 NC (negative constructive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R) = 7 mi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ff. cx of Neg = 3 mi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1 AR (affirmative rebuttal) = 4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1 NR (negative rebuttal) = 6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2 AR (affirmative rebuttal) = 3 mi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(Each side also has 4 total minutes of Prep Time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t Two: Case-writ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95280" y="1904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Introduc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pening quotation(s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Justification for your sid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tate the Resolu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tate your Valu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tate your Criteri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efine all Term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eview your Contentions (main claims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t Two: Case-writ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Bod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ontentions” are your main points.  Your main claim is called your “Tag Line” (statement of your opinion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Contention I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upport/evidence/philosophy/analysi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upport of your VALU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Contention II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upport/evidence/philosophy/analysi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upport of your CRITERI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Contention III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upport/evidence/philosophy/analysi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urther support of your side of the RESOLUTIO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t Two: Case-writ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1600" y="11430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Bod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Contention I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(claim- ex. “Taking the life of even one individual undermines the basic right to 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Times New Roman"/>
              </a:rPr>
              <a:t>life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.”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UBPOINT ONE: Taking a life is immoral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upport/evidence/philosophy/analysi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UBPOINT TWO: It is immoral to assume any life is more valuable than another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upport/evidence/philosophy/analysi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upport of your 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VALU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Contention II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(claim- ex. “Killing even one person will not result in the 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Times New Roman"/>
              </a:rPr>
              <a:t>greatest good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.”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upport/evidence/philosophy/analysis (Subpoints 1, 2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upport of your 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CRITERI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Contention III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(claim- ex. “Violating life also violates other basic rights.”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upport/evidence/philosophy/analysis (Subpoints 1, 2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urther support of your side of the 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RESOLUTIO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t Two: Case-writ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Affirmative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ummarize main idea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e-stated Value/Criteri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nding quotation(s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Negative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ummarize main idea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e-stated Value/Criteri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nding quotation(s)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ATTACK AFFIRMATIV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t Two: Case-writ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Attack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Their Value &amp; Criteri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int out flaws in how these uphold the Resolu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int out flaws in their philosophy usag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Each Conten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int out flaws in reasoning/logi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int out flaws in evidence or philosophy usag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Central Ideas of their Cas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int out flaws in reasoning/logi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int out items they should have addressed, but did no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t Three: Cross Examin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94920" y="167616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 cx, the Negative tries to cast doubt upon the Aff position (and vice versa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o NOT make statements in cx- as questions and gain answers onl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on’t allow your opponent to evade answering your questio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 cx, try to boil your opponent’s case down to a few simple poin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VER be rude during cx- always thank your opponent for the answ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t Three: Cross Examin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94920" y="167616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sk clarification questions for information you may have missed on your Flow Shee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s the Answerer, answer as clearly and simply as possibl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ave confidence in your cas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e polite, don’t get angr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ook out to the JUDGE during cx, do not look at your opponen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t One:  An Over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Resolution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is based in a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VALU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conflict (ex. Whether the Individual is more valuable than the Society, or whether something is Just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Resolution is determined by the National Forensic League (NFL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Resolution will change every 2 month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t Four:  Rebuttal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llow the same rules outlined for the last half of the 1NC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O NEW POINTS may be brought up in these speech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ack-up evidence is useful, but not necessary.  LD should not be an evidence war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last 2AC should be used to CRYSTALLIZE the round (and state why you have won the round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t Five:  Speaking Styl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9528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judg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is the god or goddess in the roo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t is the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judg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you must impres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Your opponent does not exist- they are merely a dissenting voice to the truth you speak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nvince yourself you are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right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in order to win the roun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peak to the type of judge you think you have (experienced or not, etc.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t Five:  Speaking Styl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9528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peak smoothly, without use of “uh….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Vary your tone, rate, volume and inflection for emphasi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actice your case in front of a mirr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tilize controlled gestures and eye contact with your judg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ive yourself time to breath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e polite and conversational </a:t>
            </a:r>
            <a:r>
              <a:rPr b="0" lang="en-US" sz="3200" spc="-1" strike="noStrike">
                <a:solidFill>
                  <a:srgbClr val="eaeaea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t One:  An Over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re are 2 debaters in the round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AFFIRMATIV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upholds the Resolution the way it is stat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NEGATIV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argues against the Resolu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t One:  An Over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9528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Definitio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central theme of LD Debate.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ay close attention to the definitions you use- it is best to use the first one out of the dictionary, since this is the most common, and the one your judge will be most familiar with (and will agree with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ook at the Abe &amp; Steve debate: the whole point of that debate was whether slaves were </a:t>
            </a:r>
            <a:r>
              <a:rPr b="1" i="1" lang="en-US" sz="2800" spc="-1" strike="noStrike">
                <a:solidFill>
                  <a:srgbClr val="eaeaea"/>
                </a:solidFill>
                <a:latin typeface="Times New Roman"/>
              </a:rPr>
              <a:t>DEFINED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as human beings or not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t One:  An Over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September/October Topic is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ddf307"/>
                </a:solidFill>
                <a:uFillTx/>
                <a:latin typeface="Tahoma"/>
              </a:rPr>
              <a:t>RESOLVED</a:t>
            </a:r>
            <a:r>
              <a:rPr b="0" lang="en-US" sz="3200" spc="-1" strike="noStrike">
                <a:solidFill>
                  <a:srgbClr val="ddf307"/>
                </a:solidFill>
                <a:latin typeface="Tahoma"/>
              </a:rPr>
              <a:t>:  It is morally permissible to kill one innocent person to save the lives of more innocent peopl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hat are the key words that need to be defined in this Resolution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t One:  An Over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September/October Topic is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ddf307"/>
                </a:solidFill>
                <a:uFillTx/>
                <a:latin typeface="Tahoma"/>
              </a:rPr>
              <a:t>RESOLVED</a:t>
            </a:r>
            <a:r>
              <a:rPr b="0" lang="en-US" sz="3200" spc="-1" strike="noStrike">
                <a:solidFill>
                  <a:srgbClr val="ddf307"/>
                </a:solidFill>
                <a:latin typeface="Tahoma"/>
              </a:rPr>
              <a:t>:  It is morally permissible to kill one innocent person to save the lives of more innocent peopl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hat is the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ET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(evaluative term) in this Resolution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hat is the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O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(object of evaluation)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t One:  An Over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VALU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an be anything, as long as they are supported (Criteria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e able to explain why it is important off the top of your head without quoting from your cas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ELIEVE in your Valu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t One:  An Over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Sample VALU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ndividualis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tilitarianis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Lif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Quality of Lif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reedo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iviliza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ogre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Global Securit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afet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Justic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Human Dignit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t One:  An Over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CRITERI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hilosophies and/or contracts that will uphold the Value you choos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 theory to help you prove your Value is more persuasiv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6T19:18:26Z</dcterms:created>
  <dc:creator>Frisco ISD</dc:creator>
  <dc:description/>
  <dc:language>en-US</dc:language>
  <cp:lastModifiedBy>Frisco ISD</cp:lastModifiedBy>
  <dcterms:modified xsi:type="dcterms:W3CDTF">2008-09-11T15:44:45Z</dcterms:modified>
  <cp:revision>18</cp:revision>
  <dc:subject/>
  <dc:title>Lincoln Douglas Debate</dc:title>
</cp:coreProperties>
</file>