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5D5B-4F6C-4308-8FBC-B79F1EA70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C910-9913-43BB-B753-C7207B17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7B53-992E-47E5-9467-5B48AE34D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F771-D4AD-4122-A6C6-23C587C2E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2CA2-FA8D-41FD-967C-0D0CBF19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4EDE-4280-407E-80DD-BD9AD70D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4A8A-DA5A-4A74-AF44-13CF1657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C037-07D9-47A6-A6DE-7DC9369F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7C65-90A3-469E-A1CD-B39A2711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952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F229-B4AC-48E9-8FF9-46C2712D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3DEB-7700-48DD-A86B-BB1C8B6C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8E10-7B88-4A50-985E-8ED6CA90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FC2B-7384-4CE2-93BD-DD907AEA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1CB6-4812-4786-A966-BAFFAE25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9FC6-B9D6-4B5D-B2A2-F6782200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5C2E-12EF-4C94-86F1-17863BE90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B670-FC42-4FDF-A2DC-E83E294BD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7F1F-E039-413D-8F23-DD83775D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5D27-5C67-4FF8-8510-91157273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8DFC-D958-47C8-8CF4-1832C654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952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1194-82ED-4C3D-8F1E-F5683481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93F8-1748-42BB-B8A4-FF451FEE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C1FE-EEFE-4198-BE59-B5359A24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7C1D-15CE-4E5C-B651-018E2AA9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CE14-FA49-4675-A50C-A29683F075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83B7-6387-4975-ADA1-206304F8077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0720" y="1828440"/>
            <a:ext cx="708516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Lincoln Douglas Deb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60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nlocking the Doors to Persuas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Sample CRITERIA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ocke’s Social Contra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ousseau’s Social Contra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bb’s Social Contra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awls’ Distributive Justi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ntham’s Principle of Utilitarianis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ill’s Utilitarianis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ant’s Categorical Imperi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slow’s Theory of Self-Actualiz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ree main ways to win an LD rou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ve that your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valu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s supported by your case,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supported by your opponent's case, and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uperio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o your opponent’s valu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ve that your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as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etter supports your value than your opponent’s case supports thei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ve that your case better supports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BOTH value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han your opponent’s case supports either o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Round Struct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 AC (affirmative constructive) = 6 mi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g. cx (cross examine) of Aff = 3 mi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 NC (negative constructive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R) = 7 mi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ff. cx of Neg = 3 mi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 AR (affirmative rebuttal) = 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 NR (negative rebuttal) = 6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2 AR (affirmative rebuttal) = 3 mi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(Each side also has 4 total minutes of Prep Tim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Two: Case-wri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528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Introdu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pening quotation(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ustification for your si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te the Resolu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te your Valu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te your Criter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fine all Ter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eview your Contentions (main claim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Two: Case-wri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Bo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tentions” are your main points.  Your main claim is called your “Tag Line” (statement of your opinion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ntention I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/evidence/philosophy/analys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 of your VALU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ntention I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/evidence/philosophy/analys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 of your CRITER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ntention III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/evidence/philosophy/analys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urther support of your side of the RESOLU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Two: Case-wri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Bo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ntention I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(claim- ex. “Taking the life of even one individual undermines the basic right to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life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.”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UBPOINT ONE: Taking a life is immoral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/evidence/philosophy/analys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UBPOINT TWO: It is immoral to assume any life is more valuable than another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/evidence/philosophy/analys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 of your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ntention II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(claim- ex. “Killing even one person will not result in the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greatest good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.”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/evidence/philosophy/analysis (Subpoints 1, 2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 of your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CRITER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ntention III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(claim- ex. “Violating life also violates other basic rights.”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/evidence/philosophy/analysis (Subpoints 1, 2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urther support of your side of the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RESOLU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Two: Case-wri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ffirmativ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ummarize main ide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-stated Value/Criter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ding quotation(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Negativ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ummarize main ide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-stated Value/Criter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ding quotation(s)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TTACK AFFIRMATIV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Two: Case-wri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Attack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ir Value &amp; Criter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out flaws in how these uphold the Resolu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out flaws in their philosophy usa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ach Conten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out flaws in reasoning/logi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out flaws in evidence or philosophy usa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entral Ideas of their Ca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out flaws in reasoning/logi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out items they should have addressed, but did 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Three: Cross Examin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cx, the Negative tries to cast doubt upon the Aff position (and vice vers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 NOT make statements in cx- as questions and gain answers on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n’t allow your opponent to evade answering your ques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cx, try to boil your opponent’s case down to a few simple poi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VER be rude during cx- always thank your opponent for the answ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Three: Cross Examin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k clarification questions for information you may have missed on your Flow Shee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 the Answerer, answer as clearly and simply as possi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confidence in your c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polite, don’t get ang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ook out to the JUDGE during cx, do not look at your oppon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Resolution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s based in a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VALU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conflict (ex. Whether the Individual is more valuable than the Society, or whether something is Just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Resolution is determined by the National Forensic League (NFL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Resolution will change every 2 month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Four:  Rebutta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llow the same rules outlined for the last half of the 1N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 NEW POINTS may be brought up in these speech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ack-up evidence is useful, but not necessary.  LD should not be an evidence war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last 2AC should be used to CRYSTALLIZE the round (and state why you have won the round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Five:  Speaking Sty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judg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s the god or goddess in the roo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t is the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judg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you must impr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Your opponent does not exist- they are merely a dissenting voice to the truth you spea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vince yourself you are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righ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n order to win the rou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peak to the type of judge you think you have (experienced or not, etc.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Five:  Speaking Sty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peak smoothly, without use of “uh…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ary your tone, rate, volume and inflection for emphas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actice your case in front of a mirr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tilize controlled gestures and eye contact with your jud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 yourself time to breath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polite and conversational 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re are 2 debaters in the round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AFFIRMATIV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upholds the Resolution the way it is sta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NEGATIV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argues against the Resolu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Defini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central theme of LD Debate.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ay close attention to the definitions you use- it is best to use the first one out of the dictionary, since this is the most common, and the one your judge will be most familiar with (and will agree with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ook at the Abe &amp; Steve debate: the whole point of that debate was whether slaves were </a:t>
            </a: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DEFINE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s human beings or no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September/October Topic i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f307"/>
                </a:solidFill>
                <a:uFillTx/>
                <a:latin typeface="Tahoma"/>
              </a:rPr>
              <a:t>RESOLVED</a:t>
            </a:r>
            <a:r>
              <a:rPr b="0" lang="en-US" sz="3200" spc="-1" strike="noStrike">
                <a:solidFill>
                  <a:srgbClr val="ddf307"/>
                </a:solidFill>
                <a:latin typeface="Tahoma"/>
              </a:rPr>
              <a:t>:  It is morally permissible to kill one innocent person to save the lives of more innocent peop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are the key words that need to be defined in this Resolutio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September/October Topic i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f307"/>
                </a:solidFill>
                <a:uFillTx/>
                <a:latin typeface="Tahoma"/>
              </a:rPr>
              <a:t>RESOLVED</a:t>
            </a:r>
            <a:r>
              <a:rPr b="0" lang="en-US" sz="3200" spc="-1" strike="noStrike">
                <a:solidFill>
                  <a:srgbClr val="ddf307"/>
                </a:solidFill>
                <a:latin typeface="Tahoma"/>
              </a:rPr>
              <a:t>:  It is morally permissible to kill one innocent person to save the lives of more innocent peop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is the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ET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evaluative term) in this Resolutio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is the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O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(object of evaluation)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VALU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n be anything, as long as they are supported (Criteria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able to explain why it is important off the top of your head without quoting from your c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LIEVE in your Valu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Sample VALU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dividualis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tilitarianis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if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Quality of Lif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reedo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iviliz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gre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lobal Secur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fe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Justi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uman Dign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RITER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hilosophies and/or contracts that will uphold the Value you choo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theory to help you prove your Value is more persuas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9:18:26Z</dcterms:created>
  <dc:creator>Frisco ISD</dc:creator>
  <dc:description/>
  <dc:language>en-US</dc:language>
  <cp:lastModifiedBy>Frisco ISD</cp:lastModifiedBy>
  <dcterms:modified xsi:type="dcterms:W3CDTF">2008-09-11T15:44:45Z</dcterms:modified>
  <cp:revision>18</cp:revision>
  <dc:subject/>
  <dc:title>Lincoln Douglas Debate</dc:title>
</cp:coreProperties>
</file>