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C5D-08AC-4C3C-9F17-430DA9F6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F09F-2558-4A01-9F87-779195E8CF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C32-ED4C-4C37-967D-E6855F98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92C-5856-4923-9E80-2769855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3D4-03B2-47F2-9EBA-FD8E4726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4AD-C466-4389-8F7C-B3CAD19D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C68E-87CE-49CF-98A2-EE820EFF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0BF-CEAC-4593-BAE6-48B9DD0E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6D0B-9B10-44BB-BBFB-01EB3BA5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A146-1159-49AC-926B-A79E832F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D36D-104A-4605-95A1-452230FE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E7C5-E2F0-49F5-9529-0DD75744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6E62-C9B5-44C9-A7E5-844420E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97D-CC55-422B-B809-2504BB2D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4269-F475-484A-93F3-28FF6640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484F-E892-47D9-B32A-50B5432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684A-3B49-4358-B60E-0E870021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2C0E-5A64-4980-8DA9-44CE2283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3EBA-04F5-44EA-8368-C3685C27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1CF-3214-4283-8BD4-0CCF0855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241-353D-4675-B76D-803DCB5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545-8B1E-40C7-AC77-EC08A330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626-3D53-4DD0-A93E-3AA8830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F59-0F0B-461C-9913-8301DF8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AB1-EB31-4770-BF5D-6F7D728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4EA-05A7-47C8-87A2-BC8DFEF3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F0A5-FA6B-465D-9242-F879F68C9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FD0-C140-40B3-80B5-82E62AB9F2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heryl.potts@pisd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ublic Forum Debat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FD: What is it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or debat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4-3-4-4-3-2-2-3-1-1          2 for pr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rpose of each part of the deb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 wri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se Writing Templ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Name of Team ______________________   Public Forum Case for __________(Month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General open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Link to the topic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o the affirmative/negative supports the position that cell phone usage should/should not be legal while operating a motor vehicle. Our reasons include the following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1: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2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pporting reason #2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3(optional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reason #3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onclusion(summary of team position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guments: Cogent or Fallacio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falla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eudo-argu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Ballot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my chanc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can I do to w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I avoi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ablishing Grou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the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ision of 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aker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Sh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in T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bating Health Car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 S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ealth care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act Inform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ryl Potts, Karen Wilbank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 Weinbrenner,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o Senior 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Cheryl.potts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69.752.94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.weinbrenner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7:58:45Z</dcterms:created>
  <dc:creator>Plano ISD</dc:creator>
  <dc:description/>
  <dc:language>en-US</dc:language>
  <cp:lastModifiedBy>Steffany Batik</cp:lastModifiedBy>
  <dcterms:modified xsi:type="dcterms:W3CDTF">2009-10-11T19:53:50Z</dcterms:modified>
  <cp:revision>9</cp:revision>
  <dc:subject/>
  <dc:title>Public Forum Debate</dc:title>
</cp:coreProperties>
</file>