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6B9-E59E-42FF-BB9D-25D8EFB1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40DC-4732-47AE-B4D1-61C94A8123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017-4769-47D9-BF6C-81395591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AFA-F09B-474F-A28F-4604FAE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DE1-BCF1-48DE-AB83-B6A21139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628-9D05-4954-87CF-083ADD17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CBED-BB0D-4968-9A12-1E607635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61D0-1E80-4E02-B829-DC143DB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C97-DEA0-4738-9D45-3B5A622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9C04-754B-4E13-98AB-C38C767E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E68-A475-4525-A88D-D7DDE1C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77D-B327-43CF-8B8F-C35EF6D8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FEB-AC75-4776-8076-68C625F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F1C-17D0-444F-AFA7-29A10E1D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9AEC-241B-409D-844E-82D3C346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6048-455F-47D0-83E7-31FDC4B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8A34-2A1F-4AE2-9575-9C3969DC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34D6-14A8-4F96-A0E9-B5ECA523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76D4-82EA-4151-A364-631E4ABF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DDE-3015-4FF1-9302-D0B104AD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66B-2B09-4D49-8227-B974C67D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C6A-17F2-4589-961A-FD39F57E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7F3-8389-4D19-8505-5CA6DF1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FE2-4107-4F9D-9076-C762ECB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59E-EDD9-4BCC-A378-119C5D9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1E7-6778-4DF7-B13A-28B272D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D1E4-7F03-42CF-AD35-547B84902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CA64-6D7D-4DBF-8360-832008372F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heryl.potts@pisd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ublic Forum Debat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FD: What is it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or debat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4-3-4-4-3-2-2-3-1-1          2 for pr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pose of each part of the deb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 wri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se Writing Templ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Name of Team ______________________   Public Forum Case for __________(Month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General open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Link to the topic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o the affirmative/negative supports the position that cell phone usage should/should not be legal while operating a motor vehicle. Our reasons include the following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1: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2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pporting reason #2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3(optional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reason #3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onclusion(summary of team position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guments: Cogent or Fallacio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falla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eudo-arg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Ballot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my chanc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an I do to w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I avoi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ablishing Grou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the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ision of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aker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Sh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in T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bating Health Ca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 S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ealth care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ryl Potts, Karen Wilbank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 Weinbrenner,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Senior 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Cheryl.potts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69.752.94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.weinbrenner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7:58:45Z</dcterms:created>
  <dc:creator>Plano ISD</dc:creator>
  <dc:description/>
  <dc:language>en-US</dc:language>
  <cp:lastModifiedBy>Steffany Batik</cp:lastModifiedBy>
  <dcterms:modified xsi:type="dcterms:W3CDTF">2009-10-11T19:53:50Z</dcterms:modified>
  <cp:revision>9</cp:revision>
  <dc:subject/>
  <dc:title>Public Forum Debate</dc:title>
</cp:coreProperties>
</file>