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C1E-0C22-4FE5-9F7D-4BE141473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8B92-78C9-4F94-A9E1-3F1F3575D8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31E-6F6C-48E4-B731-D4F37D7E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940-DBF1-4208-BC30-EA72AD90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DAB-8C9A-48DB-A6E3-400A12D3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940-6F4D-4728-9B92-4ABA3E46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EC1-20AD-4123-B119-F10301FC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F2D3-3C7F-4BAB-9E0C-41ECEBF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BEB1-B82A-4383-9120-1F8F3E14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1A1F-1DC4-4AC3-A0CF-4BD4AF81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699C-41F8-4891-BD95-7960E917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EC54-78A5-40C1-AC01-0F59727D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FF85-4A6D-47AC-ABEA-70353B75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6B9-D962-426B-A752-DB4D794B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BAC3-568E-473D-8181-6401653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A8BA-1D27-4117-B2BB-8D770F60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ACDF-17D1-4036-98B0-0E0523F5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06FB-606D-4826-B892-D307AEB1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AE47-48E5-4F8F-ABCB-8837BBF1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413-BA47-483E-AFDB-73CE1A60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206-9B44-4A42-B009-5CB84B59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A72-59DC-4348-9626-2FC38A0D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B91-0DCE-4B0B-912E-DB59427A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F10-0C2B-40EC-9DA1-0126B5D9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059-AF4C-45DE-99F4-C8627687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43E-F6A0-4400-A973-D286E69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6597-3D50-46A4-91E8-09947881D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D174-82DD-43A4-927C-22CF39D4C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heryl.potts@pisd.ed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ublic Forum Debat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FD: What is it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or debat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4-3-4-4-3-2-2-3-1-1          2 for pre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rpose of each part of the deb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e wri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se Writing Templa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Name of Team ______________________   Public Forum Case for __________(Month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General open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Link to the topic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o the affirmative/negative supports the position that cell phone usage should/should not be legal while operating a motor vehicle. Our reasons include the following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1: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2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pporting reason #2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3(optional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reason #3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onclusion(summary of team position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guments: Cogent or Fallacio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s of falla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s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eudo-argu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Ballot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my chanc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can I do to w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hould I avoi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stablishing Groun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the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ision of 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aker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st Sh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in T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bating Health Car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 S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ealth care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act Inform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ryl Potts, Karen Wilbank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 Weinbrenner,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o Senior 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Cheryl.potts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69.752.943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.weinbrenner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7:58:45Z</dcterms:created>
  <dc:creator>Plano ISD</dc:creator>
  <dc:description/>
  <dc:language>en-US</dc:language>
  <cp:lastModifiedBy>Steffany Batik</cp:lastModifiedBy>
  <dcterms:modified xsi:type="dcterms:W3CDTF">2009-10-11T19:53:50Z</dcterms:modified>
  <cp:revision>9</cp:revision>
  <dc:subject/>
  <dc:title>Public Forum Debate</dc:title>
</cp:coreProperties>
</file>