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5FFC-0533-4D10-929C-C71F409CF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4839-DADC-4EB7-84B0-720636B130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CBF3-9738-4142-93DA-3F1BD7EB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1395-DB27-499F-BC8A-4343C444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1006-4AC2-45A6-96A8-9ED24687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F2AD-0D89-43A9-A943-064C15B6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CDC5-4BB8-451E-BF6D-728933F2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C2B1-386E-4010-8D12-58326DD5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2847-84B8-4CB6-9741-E5519DC6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BEF1-8A39-47BB-B149-F61AE129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5716-9218-4261-B234-4D75611F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3798-BB18-4E92-997D-0AED808F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B068-4E21-41A5-B133-AA3D5C3D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FE75-F42F-4CF2-9D93-D3570FB5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E227-6AC1-4776-BA5D-8345DBDE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F2D4-1B1A-4320-ACA3-066CA5E0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3AF2-E8B5-4AEE-B5B3-F37C52F5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2316-D590-4961-8A63-AFB2E975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4183-3223-4C16-9AA2-9917B57C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88AE-8F2C-42AC-A282-AED41CC5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9096-EF48-4EAB-BFC2-47274E0C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42F6-2F40-469D-8753-AA6AEF64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B8AB-C8FA-4CBF-B485-D734F4EC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D914-6E03-4F3B-9CDA-4E54A93B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EEA4-B93B-47B5-A118-A7178828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9E01-E4BD-4455-B0CC-060EC3E2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7030-61EF-4668-A99C-E7B1B37ED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74E2-36B8-4A36-AD8E-1E61E8F4F0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Cheryl.potts@pisd.edu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Public Forum Debate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FD: What is it?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cussion or debat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-4-3-4-4-3-2-2-3-1-1          2 for pre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rpose of each part of the deb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se wri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ase Writing Templat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Name of Team ______________________   Public Forum Case for __________(Month)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General opening quote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Link to the topic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o the affirmative/negative supports the position that cell phone usage should/should not be legal while operating a motor vehicle. Our reasons include the following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Reason #1: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a (supporting Reason #1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proves subpoint a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b (supporting Reason #1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proves subpoint b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Reason #2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supporting reason #2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a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subpoint a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b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subpoint b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Reason #3(optional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for reason #3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a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for subpoint a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b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for subpoint b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Conclusion(summary of team position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rguments: Cogent or Fallacio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g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es of fallac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id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so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ngu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seudo-argu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he Ballot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my chanc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can I do to wi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should I avoi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stablishing Groun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le of the top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vision of grou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aker du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st Sho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ossfi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in To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ear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ebating Health Car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 S Health Care g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 Health Care b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ench Health Care g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ench Health Care b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ther health care syst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tact Inform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eryl Potts, Karen Wilbanks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ti Weinbrenner, Coac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ano Senior H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Cheryl.potts@pisd.ed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69.752.943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ti.weinbrenner@pisd.ed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17:58:45Z</dcterms:created>
  <dc:creator>Plano ISD</dc:creator>
  <dc:description/>
  <dc:language>en-US</dc:language>
  <cp:lastModifiedBy>Steffany Batik</cp:lastModifiedBy>
  <dcterms:modified xsi:type="dcterms:W3CDTF">2009-10-11T19:53:50Z</dcterms:modified>
  <cp:revision>9</cp:revision>
  <dc:subject/>
  <dc:title>Public Forum Debate</dc:title>
</cp:coreProperties>
</file>